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  <p:sldId id="258" r:id="rId34"/>
    <p:sldId id="259" r:id="rId35"/>
    <p:sldId id="260" r:id="rId36"/>
    <p:sldId id="261" r:id="rId37"/>
    <p:sldId id="262" r:id="rId38"/>
    <p:sldId id="263" r:id="rId39"/>
    <p:sldId id="264" r:id="rId40"/>
    <p:sldId id="265" r:id="rId41"/>
    <p:sldId id="266" r:id="rId42"/>
    <p:sldId id="267" r:id="rId43"/>
    <p:sldId id="268" r:id="rId44"/>
    <p:sldId id="269" r:id="rId45"/>
    <p:sldId id="270" r:id="rId46"/>
    <p:sldId id="271" r:id="rId47"/>
    <p:sldId id="272" r:id="rId48"/>
    <p:sldId id="273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slide" Target="slides/slide3.xml"/><Relationship Id="rId35" Type="http://schemas.openxmlformats.org/officeDocument/2006/relationships/slide" Target="slides/slide4.xml"/><Relationship Id="rId36" Type="http://schemas.openxmlformats.org/officeDocument/2006/relationships/slide" Target="slides/slide5.xml"/><Relationship Id="rId37" Type="http://schemas.openxmlformats.org/officeDocument/2006/relationships/slide" Target="slides/slide6.xml"/><Relationship Id="rId38" Type="http://schemas.openxmlformats.org/officeDocument/2006/relationships/slide" Target="slides/slide7.xml"/><Relationship Id="rId39" Type="http://schemas.openxmlformats.org/officeDocument/2006/relationships/slide" Target="slides/slide8.xml"/><Relationship Id="rId40" Type="http://schemas.openxmlformats.org/officeDocument/2006/relationships/slide" Target="slides/slide9.xml"/><Relationship Id="rId41" Type="http://schemas.openxmlformats.org/officeDocument/2006/relationships/slide" Target="slides/slide10.xml"/><Relationship Id="rId42" Type="http://schemas.openxmlformats.org/officeDocument/2006/relationships/slide" Target="slides/slide11.xml"/><Relationship Id="rId43" Type="http://schemas.openxmlformats.org/officeDocument/2006/relationships/slide" Target="slides/slide12.xml"/><Relationship Id="rId44" Type="http://schemas.openxmlformats.org/officeDocument/2006/relationships/slide" Target="slides/slide13.xml"/><Relationship Id="rId45" Type="http://schemas.openxmlformats.org/officeDocument/2006/relationships/slide" Target="slides/slide14.xml"/><Relationship Id="rId46" Type="http://schemas.openxmlformats.org/officeDocument/2006/relationships/slide" Target="slides/slide15.xml"/><Relationship Id="rId47" Type="http://schemas.openxmlformats.org/officeDocument/2006/relationships/slide" Target="slides/slide16.xml"/><Relationship Id="rId48" Type="http://schemas.openxmlformats.org/officeDocument/2006/relationships/slide" Target="slides/slide17.xml"/><Relationship Id="rId49" Type="http://schemas.openxmlformats.org/officeDocument/2006/relationships/slide" Target="slides/slide18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818C-2EB1-404C-867A-3B898EADA5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slide" Target="../slides/slide6.xml"/><Relationship Id="rId15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.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.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.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.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.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.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.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.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.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.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.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./kejian/shuxue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./kejian/yingyu/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./kejian/meish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./kejian/kexue/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./kejian/wuli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./kejian/huaxue/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./kejian/shengw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./kejian/dili/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./kejian/lishi/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C8C9-0E81-44EB-AF6D-D5D3D949C4A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C37-B4A9-4374-AA63-F1CC5469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DF9-C44E-4E55-A7EE-D2559F68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6E38DD-525A-4E4F-811A-0A2239BC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079E03-1E43-40FA-A732-10C8805F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F39E20-C5E1-46D1-AAA4-E1FA51F6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246B4-11B3-4373-BD83-1B1E24E3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93505E-DEDA-4B8F-BD7D-D6D999C4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B429EE-43E9-4A93-90DD-FD5CC3CD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C1C8B5-7781-4728-BC68-410F00BD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F3B918-3123-4332-A1A1-D63959E3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06A2A0-7420-40F0-9A7E-E42B57B9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9553B5-7781-4028-A3F3-79E92F66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617-3C33-42C3-90E1-2147F416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81A58F-17F4-4B30-9BA3-A5953E27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97B9F7-8A52-4B95-B4F5-F4399288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02A113-2BDC-4A5B-A1DC-C271FDCE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F9D273-D950-492F-8412-6AEEE69C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C46252-83CF-4A47-9BCF-85B9638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30AE5F-7039-4B26-AC01-21FC288A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E24EF4-A67F-4C10-BAAF-BBFFA794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CDD1C2-62CA-4EFE-AA2D-3CAD1756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ADB141-4388-4335-9AA0-CE44AA9C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189F20-427E-4BC5-BF3A-2A0D7F40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D2C-9630-4ABD-9E29-FBAEB949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4BCB3B-5BE4-4786-B74A-91B95347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F3A78-3A69-4637-BE18-718DF53B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2FBBD-816D-43D0-B5FC-868405D0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8BB05-AF64-419A-803E-9C537CC5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32F98-6592-4DA8-A79D-A81552EE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6D048-E572-44D5-8EA9-28D958B4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4C987-56B4-42D5-BC59-F2BD8183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5E427-7C77-4CFE-9217-14745C94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65666-F6F9-4E2A-AB4A-0FB7F6BE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1F6DA-54D6-426A-B574-FCB90D35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C007-4707-4AF7-9E80-C6D8E82C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98F91-8742-451F-B7C7-34AF2CD6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22D54-4F5B-4B3F-80A7-A9538A8E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60E5D-CDBE-42E3-A7D2-379B0059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A93A8-483D-4167-9EB5-954E19ED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3FC75-B899-479F-962A-D265AB66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582E5-2403-45EB-A3F6-33833EA0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AB05B-4E7E-4F82-B11A-60CF26A4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E1154-55E1-4A46-8DA0-BB629B5D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5A2A7-FC7A-4A0A-A893-83D8FCF4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E820D-AA06-4860-8ADF-054C790E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4A07-1E2D-432E-A373-4E20B4DA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C0A40-879A-4FC2-8AAE-D68419B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98346-6B12-4E38-B54C-08E15D1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2A491-AEF0-4A98-8DC3-8666B57B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6FE54-BA37-40B1-99BF-B7EA0C63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4010C-2AF9-4320-BDA8-F3706063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DC46-E8ED-449C-AAA4-4280DC34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2176-A9FF-4666-B84C-54C19AB7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4D4D-8037-4CC3-9F80-3C01163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D2B1-402C-4399-AB00-737A4FD3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A832-409C-4CFA-B217-25C791F1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3EE-AFF6-4E8E-87EF-7735EA92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F092-7DD1-4921-8F4D-3B6B2A2C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45A1-DA3D-4AAA-9002-837CA4C1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2775-A14A-4DE0-9311-1CBD905F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9134-5FA4-43B4-A74D-3BBE3156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A9BA-39C3-40BF-89BC-8A4C356A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75C72-4363-4166-9026-5B3BF757B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8686F-49FA-4640-A43B-68B9FD70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E8133-2D11-48DA-B587-25532D71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7F629-2306-4E89-8847-20D29DD1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1F119-6D3D-4190-AD6E-4FC3C51B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63C-1DAF-4B2C-8E5E-6DCF702B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36DBD-80E5-43B2-8D88-F1D97800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38065-367D-484F-9D31-453AE10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BE9D5-5744-4410-B504-75AA8AAC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FD148B-584F-46B5-9415-165B2EF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BFE2C9-FB22-4E09-BC31-53F9B246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4A367-C626-4287-9069-0D6363DD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24F5E-DB6D-4479-B5F5-D0BF8AFB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EB1F-7A57-4F89-BA9D-6F13CBA2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E38FB-A1A2-49A2-BFC1-FC7F274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A33B-B56F-45D3-B94D-CE5F8F13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B10-3451-4E93-A741-8A2F0BFC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E3C4-7C1F-4159-A054-9C117661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5AEED-48DB-4F32-8F1B-8E0436A4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92B5C-F6C1-4C52-8359-7DEEC31D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1929-2D46-4B6E-9692-CFA607C7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8766-874E-4674-A866-E2E473D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E2C3D-12EE-44F4-A82E-C50481D8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E4113-D499-46ED-844C-A73D31A1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0DA6-35D1-4A3B-8CD9-8D8D3626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579E3-4FFF-454B-8B14-043A6B07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4098F-DD46-4B33-B075-10303367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D096-3C2B-40A6-985E-67A57E17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9D3C2-A5D4-44C1-922F-7BB4D55A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F1B5-AD2D-4B25-B7F3-2977CE2B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190B7-DF01-47E9-8F4F-CE93AEA6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C5341-1111-4678-BBC0-3EFB27D8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A375C-47EC-4A7F-851F-119D41AC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A3923-5E8F-403D-9C2B-D5F02D3A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15D2F-A02A-413D-A2AB-4A0B430C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9E59B-DBA7-4292-9CB5-45EA3FE5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1710D-8DDB-4955-9F50-4EC16DD1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2C4C3-B99B-4AFE-A5A8-C77B7817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418B-3483-480E-A16C-C58F69A0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5C809-5442-4738-BF51-2AAA83D5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8DD61-3483-4314-8208-727A2637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6FD5-AAD9-49BE-8E7F-9DB8656F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480E9-1FB4-40E5-85D6-D9F902DA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6442D-0A0A-4391-B6FE-955E48E2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05993-20D1-41F5-A120-C915634D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E68C6-4650-4D8A-9084-BFE30CA2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DB8B-FFFA-4245-AC90-F3B61070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9709F-D0C5-43D5-B397-A5D5318E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1DFA8-EAD3-4BA6-B0B5-EA4E992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2A7-CE8A-498B-9244-2F266382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04A6A-D5BC-4205-9A18-AA59F3CB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7DB40-0817-4673-9FE3-77A55E10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1C485-B1D0-4540-B8BE-4F04C4CD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79AEDB-219A-4C4E-90DF-065D6B9B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2CF05C-EC84-4079-BF0F-C61599E8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F7A25-980C-4F18-BD1F-D7DE049D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179C93-5A8C-4914-84E3-FEA3BB43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0C097-2ACE-42E5-AB6B-01C7767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8B1B8A-126B-4631-A1EE-EAEA4E9A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81DCF4-C098-4EDC-9D1F-D4F51C04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48F-DAEA-421F-A2CA-99EC5FEC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E5B35-72B0-4A6E-9CF2-7EECD9D0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4F8DC-88EF-4B5B-8D21-7E594C65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DD83A-3F83-4C63-BD6F-11A2E778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C7B00-91C3-4225-9F40-2D9A7F68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34C33-C769-4E21-89EC-E6B3864A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797D6-F302-4897-B911-78404391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FA93A-B42D-4CF7-9535-40152394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4A77D-720B-4290-836C-608A93BC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2F379-F246-45EE-B56C-A47533E9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B2BD8-ACCE-417D-A851-E62422C7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9A8-AF00-4762-8044-C5D944E8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81A08-B3D4-4B6F-BB6E-D6F1773C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16145-2B49-4F4F-B1F0-ABA3A101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CDD39-A2CA-40C5-B3CC-FFDD7C7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75ECC-D3B8-48B0-B663-0A96E1B6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DFDA1-AAA1-4817-AD59-F9EFE167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F8419-7BD7-4F60-ACD7-3CDB5D4F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578B1-856A-4DE0-A1C7-09A10B4E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BF4B3B-C3F6-4728-9E16-98963DB5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048F3F-C5D4-496F-A3BF-23A35FD4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B708F1-BBDA-4E2F-BCAA-E3DF19C5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hyperlink" Target="http://www.zhyh.org/" TargetMode="External"/><Relationship Id="rId3" Type="http://schemas.openxmlformats.org/officeDocument/2006/relationships/hyperlink" Target="http://www.zhyh.org/" TargetMode="External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E912-75D4-45D3-80D7-58D734E3BD3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椭圆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直接连接符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1345-79AD-46DB-8AE2-B6332CB15C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11E0-6C4D-4C70-97C6-9E787E3525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1102-2292-49E3-AA5E-0F2D29EA8B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34F1-2BEA-4FFE-9A24-E466D6ED96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AutoShape 7">
            <a:hlinkClick r:id="" action="ppaction://hlinkshowjump?jump=endshow"/>
          </p:cNvPr>
          <p:cNvSpPr/>
          <p:nvPr/>
        </p:nvSpPr>
        <p:spPr>
          <a:xfrm>
            <a:off x="8232840" y="6465960"/>
            <a:ext cx="571320" cy="214200"/>
          </a:xfrm>
          <a:custGeom>
            <a:avLst/>
            <a:gdLst>
              <a:gd name="textAreaLeft" fmla="*/ 13680 w 571320"/>
              <a:gd name="textAreaRight" fmla="*/ 557640 w 5713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57552" h="21600">
                <a:moveTo>
                  <a:pt x="0" y="0"/>
                </a:moveTo>
                <a:lnTo>
                  <a:pt x="57552" y="0"/>
                </a:lnTo>
                <a:lnTo>
                  <a:pt x="57552" y="21600"/>
                </a:lnTo>
                <a:lnTo>
                  <a:pt x="0" y="21600"/>
                </a:lnTo>
                <a:close/>
              </a:path>
              <a:path fill="lightenLess" w="57552" h="21600">
                <a:moveTo>
                  <a:pt x="0" y="0"/>
                </a:moveTo>
                <a:lnTo>
                  <a:pt x="57552" y="0"/>
                </a:lnTo>
                <a:lnTo>
                  <a:pt x="56152" y="1400"/>
                </a:lnTo>
                <a:lnTo>
                  <a:pt x="1400" y="1400"/>
                </a:lnTo>
                <a:close/>
              </a:path>
              <a:path fill="darken" w="57552" h="21600">
                <a:moveTo>
                  <a:pt x="57552" y="0"/>
                </a:moveTo>
                <a:lnTo>
                  <a:pt x="57552" y="21600"/>
                </a:lnTo>
                <a:lnTo>
                  <a:pt x="56152" y="20200"/>
                </a:lnTo>
                <a:lnTo>
                  <a:pt x="56152" y="1400"/>
                </a:lnTo>
                <a:close/>
              </a:path>
              <a:path fill="darkenLess" w="57552" h="21600">
                <a:moveTo>
                  <a:pt x="57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52" y="20200"/>
                </a:lnTo>
                <a:close/>
              </a:path>
              <a:path fill="lighten" w="57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">
            <a:hlinkClick r:id="rId2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6">
            <a:hlinkClick r:id="rId3"/>
          </p:cNvPr>
          <p:cNvSpPr/>
          <p:nvPr/>
        </p:nvSpPr>
        <p:spPr>
          <a:xfrm>
            <a:off x="3214800" y="657216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4A89-AE33-4F69-B532-B1AC271CA7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椭圆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F328-7724-458D-8454-8D912DD485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ED9D-FEA1-4C17-9B9E-93E703610F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F8C0-5F1C-4945-BB7F-07FDC28EDD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EFA4-C1E8-4529-8065-3BB6185CAD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直接连接符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椭圆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C9EF-A48F-4AD8-B57A-1C3FDE80EB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直接连接符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接连接符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直接连接符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17C9-9019-43B9-A6CF-C9981AB308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Picture 2" descr="031225143acn_2"/>
          <p:cNvPicPr/>
          <p:nvPr/>
        </p:nvPicPr>
        <p:blipFill>
          <a:blip r:embed="rId1"/>
          <a:stretch/>
        </p:blipFill>
        <p:spPr>
          <a:xfrm>
            <a:off x="7626240" y="3408480"/>
            <a:ext cx="1387440" cy="237492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3" descr="040212165 _2"/>
          <p:cNvPicPr/>
          <p:nvPr/>
        </p:nvPicPr>
        <p:blipFill>
          <a:blip r:embed="rId2"/>
          <a:stretch/>
        </p:blipFill>
        <p:spPr>
          <a:xfrm>
            <a:off x="5861160" y="3371760"/>
            <a:ext cx="1411200" cy="241164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爱岗敬业"/>
          <p:cNvPicPr/>
          <p:nvPr/>
        </p:nvPicPr>
        <p:blipFill>
          <a:blip r:embed="rId3"/>
          <a:stretch/>
        </p:blipFill>
        <p:spPr>
          <a:xfrm>
            <a:off x="1984320" y="3271680"/>
            <a:ext cx="1728720" cy="241164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7" descr="认真学习"/>
          <p:cNvPicPr/>
          <p:nvPr/>
        </p:nvPicPr>
        <p:blipFill>
          <a:blip r:embed="rId4"/>
          <a:stretch/>
        </p:blipFill>
        <p:spPr>
          <a:xfrm>
            <a:off x="3986280" y="3284640"/>
            <a:ext cx="1509480" cy="2411280"/>
          </a:xfrm>
          <a:prstGeom prst="rect">
            <a:avLst/>
          </a:prstGeom>
          <a:ln w="0">
            <a:noFill/>
          </a:ln>
        </p:spPr>
      </p:pic>
      <p:sp>
        <p:nvSpPr>
          <p:cNvPr id="1396" name="Text Box 8"/>
          <p:cNvSpPr/>
          <p:nvPr/>
        </p:nvSpPr>
        <p:spPr>
          <a:xfrm>
            <a:off x="2414520" y="1238400"/>
            <a:ext cx="59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琥珀"/>
                <a:ea typeface="华文琥珀"/>
              </a:rPr>
              <a:t>第七课  敬业与乐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8"/>
          <p:cNvSpPr/>
          <p:nvPr/>
        </p:nvSpPr>
        <p:spPr>
          <a:xfrm>
            <a:off x="4807800" y="6165720"/>
            <a:ext cx="10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-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Text Box 2"/>
          <p:cNvSpPr/>
          <p:nvPr/>
        </p:nvSpPr>
        <p:spPr>
          <a:xfrm>
            <a:off x="0" y="503280"/>
            <a:ext cx="1871640" cy="58140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3"/>
          <p:cNvSpPr/>
          <p:nvPr/>
        </p:nvSpPr>
        <p:spPr>
          <a:xfrm>
            <a:off x="2195640" y="620640"/>
            <a:ext cx="62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是怎样论述敬业的必要性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0"/>
          <p:cNvSpPr/>
          <p:nvPr/>
        </p:nvSpPr>
        <p:spPr>
          <a:xfrm>
            <a:off x="714240" y="2095560"/>
            <a:ext cx="45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0c0"/>
                </a:solidFill>
                <a:latin typeface="华文楷体"/>
                <a:ea typeface="华文楷体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11"/>
          <p:cNvSpPr/>
          <p:nvPr/>
        </p:nvSpPr>
        <p:spPr>
          <a:xfrm>
            <a:off x="4218480" y="1052640"/>
            <a:ext cx="48528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引用论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AutoShape 12"/>
          <p:cNvSpPr/>
          <p:nvPr/>
        </p:nvSpPr>
        <p:spPr>
          <a:xfrm>
            <a:off x="4797360" y="1590840"/>
            <a:ext cx="719280" cy="288720"/>
          </a:xfrm>
          <a:prstGeom prst="rightArrow">
            <a:avLst>
              <a:gd name="adj1" fmla="val 50000"/>
              <a:gd name="adj2" fmla="val 62282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Text Box 13"/>
          <p:cNvGrpSpPr/>
          <p:nvPr/>
        </p:nvGrpSpPr>
        <p:grpSpPr>
          <a:xfrm>
            <a:off x="5510160" y="1219320"/>
            <a:ext cx="3024360" cy="1006200"/>
            <a:chOff x="5510160" y="1219320"/>
            <a:chExt cx="3024360" cy="1006200"/>
          </a:xfrm>
        </p:grpSpPr>
        <p:pic>
          <p:nvPicPr>
            <p:cNvPr id="1470" name="Text Box 13" descr=""/>
            <p:cNvPicPr/>
            <p:nvPr/>
          </p:nvPicPr>
          <p:blipFill>
            <a:blip r:embed="rId1"/>
            <a:stretch/>
          </p:blipFill>
          <p:spPr>
            <a:xfrm>
              <a:off x="5510160" y="1219320"/>
              <a:ext cx="30243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5661000" y="1303200"/>
              <a:ext cx="28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0c0"/>
                  </a:solidFill>
                  <a:latin typeface="方正姚体"/>
                  <a:ea typeface="方正姚体"/>
                </a:rPr>
                <a:t>敬业：</a:t>
              </a:r>
              <a:r>
                <a:rPr b="0" lang="zh-CN" sz="2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专心致志、心无旁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2" name="Text Box 15"/>
          <p:cNvSpPr/>
          <p:nvPr/>
        </p:nvSpPr>
        <p:spPr>
          <a:xfrm>
            <a:off x="611280" y="29275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人类生存的需要</a:t>
            </a:r>
            <a:r>
              <a:rPr b="1" lang="en-US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——</a:t>
            </a: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为生活而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 Box 16"/>
          <p:cNvSpPr/>
          <p:nvPr/>
        </p:nvSpPr>
        <p:spPr>
          <a:xfrm>
            <a:off x="611280" y="32986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个体生活的意义</a:t>
            </a:r>
            <a:r>
              <a:rPr b="1" lang="en-US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——</a:t>
            </a:r>
            <a:r>
              <a:rPr b="1" lang="zh-CN" sz="2400" spc="-1" strike="noStrike">
                <a:solidFill>
                  <a:srgbClr val="0070c0"/>
                </a:solidFill>
                <a:latin typeface="华文楷体"/>
                <a:ea typeface="华文楷体"/>
              </a:rPr>
              <a:t>为劳动而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AutoShape 17"/>
          <p:cNvSpPr/>
          <p:nvPr/>
        </p:nvSpPr>
        <p:spPr>
          <a:xfrm>
            <a:off x="5364000" y="3213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Text Box 18"/>
          <p:cNvGrpSpPr/>
          <p:nvPr/>
        </p:nvGrpSpPr>
        <p:grpSpPr>
          <a:xfrm>
            <a:off x="5815080" y="2670120"/>
            <a:ext cx="3236760" cy="1163520"/>
            <a:chOff x="5815080" y="2670120"/>
            <a:chExt cx="3236760" cy="1163520"/>
          </a:xfrm>
        </p:grpSpPr>
        <p:pic>
          <p:nvPicPr>
            <p:cNvPr id="1476" name="Text Box 18" descr=""/>
            <p:cNvPicPr/>
            <p:nvPr/>
          </p:nvPicPr>
          <p:blipFill>
            <a:blip r:embed="rId2"/>
            <a:stretch/>
          </p:blipFill>
          <p:spPr>
            <a:xfrm>
              <a:off x="5815080" y="2670120"/>
              <a:ext cx="323676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7" name=""/>
            <p:cNvSpPr/>
            <p:nvPr/>
          </p:nvSpPr>
          <p:spPr>
            <a:xfrm>
              <a:off x="5940360" y="2735280"/>
              <a:ext cx="300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论证了</a:t>
              </a:r>
              <a:r>
                <a:rPr b="0" lang="zh-CN" sz="2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“凡职业没有不是神圣的，凡职业没有不可敬的”</a:t>
              </a:r>
              <a:r>
                <a:rPr b="0" lang="zh-CN" sz="2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的道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Text Box 19"/>
          <p:cNvSpPr/>
          <p:nvPr/>
        </p:nvSpPr>
        <p:spPr>
          <a:xfrm>
            <a:off x="468360" y="374328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华文楷体"/>
                <a:ea typeface="华文楷体"/>
              </a:rPr>
              <a:t>（</a:t>
            </a:r>
            <a:r>
              <a:rPr b="1" lang="zh-CN" sz="2400" spc="-1" strike="noStrike">
                <a:solidFill>
                  <a:srgbClr val="003300"/>
                </a:solidFill>
                <a:latin typeface="华文楷体"/>
                <a:ea typeface="华文楷体"/>
              </a:rPr>
              <a:t>正面举“当大总统”、“当车夫”的事例</a:t>
            </a:r>
            <a:r>
              <a:rPr b="1" lang="zh-CN" sz="2000" spc="-1" strike="noStrike">
                <a:solidFill>
                  <a:srgbClr val="003300"/>
                </a:solidFill>
                <a:latin typeface="华文楷体"/>
                <a:ea typeface="华文楷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25"/>
          <p:cNvSpPr/>
          <p:nvPr/>
        </p:nvSpPr>
        <p:spPr>
          <a:xfrm>
            <a:off x="3270600" y="4221000"/>
            <a:ext cx="48528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引用论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AutoShape 26"/>
          <p:cNvGrpSpPr/>
          <p:nvPr/>
        </p:nvGrpSpPr>
        <p:grpSpPr>
          <a:xfrm>
            <a:off x="4651200" y="5052960"/>
            <a:ext cx="1073160" cy="360360"/>
            <a:chOff x="4651200" y="5052960"/>
            <a:chExt cx="1073160" cy="360360"/>
          </a:xfrm>
        </p:grpSpPr>
        <p:pic>
          <p:nvPicPr>
            <p:cNvPr id="1481" name="AutoShape 26" descr=""/>
            <p:cNvPicPr/>
            <p:nvPr/>
          </p:nvPicPr>
          <p:blipFill>
            <a:blip r:embed="rId3"/>
            <a:stretch/>
          </p:blipFill>
          <p:spPr>
            <a:xfrm>
              <a:off x="4651200" y="5052960"/>
              <a:ext cx="10731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4716360" y="5153040"/>
              <a:ext cx="81936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Text Box 33"/>
          <p:cNvSpPr/>
          <p:nvPr/>
        </p:nvSpPr>
        <p:spPr>
          <a:xfrm>
            <a:off x="3740760" y="4175280"/>
            <a:ext cx="48528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正面举例论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Text Box 35"/>
          <p:cNvGrpSpPr/>
          <p:nvPr/>
        </p:nvGrpSpPr>
        <p:grpSpPr>
          <a:xfrm>
            <a:off x="5815080" y="4529160"/>
            <a:ext cx="2639880" cy="1469880"/>
            <a:chOff x="5815080" y="4529160"/>
            <a:chExt cx="2639880" cy="1469880"/>
          </a:xfrm>
        </p:grpSpPr>
        <p:pic>
          <p:nvPicPr>
            <p:cNvPr id="1485" name="Text Box 35" descr=""/>
            <p:cNvPicPr/>
            <p:nvPr/>
          </p:nvPicPr>
          <p:blipFill>
            <a:blip r:embed="rId4"/>
            <a:stretch/>
          </p:blipFill>
          <p:spPr>
            <a:xfrm>
              <a:off x="5815080" y="4529160"/>
              <a:ext cx="2639880" cy="146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6" name=""/>
            <p:cNvSpPr/>
            <p:nvPr/>
          </p:nvSpPr>
          <p:spPr>
            <a:xfrm>
              <a:off x="5940360" y="4594320"/>
              <a:ext cx="24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ff"/>
                  </a:solidFill>
                  <a:latin typeface="方正姚体"/>
                  <a:ea typeface="方正姚体"/>
                </a:rPr>
                <a:t>强调论证了</a:t>
              </a:r>
              <a:r>
                <a:rPr b="0" lang="zh-CN" sz="2000" spc="-1" strike="noStrike">
                  <a:solidFill>
                    <a:srgbClr val="ff3300"/>
                  </a:solidFill>
                  <a:latin typeface="方正姚体"/>
                  <a:ea typeface="方正姚体"/>
                </a:rPr>
                <a:t>“敬业主义，于人生最为必要，又于人生最为有利” 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7" name="Text Box 36"/>
          <p:cNvSpPr/>
          <p:nvPr/>
        </p:nvSpPr>
        <p:spPr>
          <a:xfrm>
            <a:off x="3081240" y="614376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从反面说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Text Box 37"/>
          <p:cNvGrpSpPr/>
          <p:nvPr/>
        </p:nvGrpSpPr>
        <p:grpSpPr>
          <a:xfrm>
            <a:off x="487440" y="1206360"/>
            <a:ext cx="3511440" cy="635040"/>
            <a:chOff x="487440" y="1206360"/>
            <a:chExt cx="3511440" cy="635040"/>
          </a:xfrm>
        </p:grpSpPr>
        <p:pic>
          <p:nvPicPr>
            <p:cNvPr id="1489" name="Text Box 37" descr=""/>
            <p:cNvPicPr/>
            <p:nvPr/>
          </p:nvPicPr>
          <p:blipFill>
            <a:blip r:embed="rId5"/>
            <a:stretch/>
          </p:blipFill>
          <p:spPr>
            <a:xfrm>
              <a:off x="487440" y="1206360"/>
              <a:ext cx="35114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"/>
            <p:cNvSpPr/>
            <p:nvPr/>
          </p:nvSpPr>
          <p:spPr>
            <a:xfrm>
              <a:off x="642960" y="1285920"/>
              <a:ext cx="32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、什么是“敬业”</a:t>
              </a:r>
              <a:r>
                <a:rPr b="0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1" name="Text Box 38"/>
          <p:cNvGrpSpPr/>
          <p:nvPr/>
        </p:nvGrpSpPr>
        <p:grpSpPr>
          <a:xfrm>
            <a:off x="530280" y="1981080"/>
            <a:ext cx="3687840" cy="1000080"/>
            <a:chOff x="530280" y="1981080"/>
            <a:chExt cx="3687840" cy="1000080"/>
          </a:xfrm>
        </p:grpSpPr>
        <p:pic>
          <p:nvPicPr>
            <p:cNvPr id="1492" name="Text Box 38" descr=""/>
            <p:cNvPicPr/>
            <p:nvPr/>
          </p:nvPicPr>
          <p:blipFill>
            <a:blip r:embed="rId6"/>
            <a:stretch/>
          </p:blipFill>
          <p:spPr>
            <a:xfrm>
              <a:off x="530280" y="1981080"/>
              <a:ext cx="368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3" name=""/>
            <p:cNvSpPr/>
            <p:nvPr/>
          </p:nvSpPr>
          <p:spPr>
            <a:xfrm>
              <a:off x="684360" y="2060640"/>
              <a:ext cx="31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、为什么要“敬业”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右大括号 38"/>
          <p:cNvSpPr/>
          <p:nvPr/>
        </p:nvSpPr>
        <p:spPr>
          <a:xfrm>
            <a:off x="4140360" y="4248000"/>
            <a:ext cx="428400" cy="192888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3"/>
          <p:cNvSpPr/>
          <p:nvPr/>
        </p:nvSpPr>
        <p:spPr>
          <a:xfrm>
            <a:off x="755640" y="4508640"/>
            <a:ext cx="261144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7a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怎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敬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方正姚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6" name="Text Box 2"/>
          <p:cNvGrpSpPr/>
          <p:nvPr/>
        </p:nvGrpSpPr>
        <p:grpSpPr>
          <a:xfrm>
            <a:off x="225360" y="1809720"/>
            <a:ext cx="2170080" cy="1006560"/>
            <a:chOff x="225360" y="1809720"/>
            <a:chExt cx="2170080" cy="1006560"/>
          </a:xfrm>
        </p:grpSpPr>
        <p:pic>
          <p:nvPicPr>
            <p:cNvPr id="1497" name="Text Box 2" descr=""/>
            <p:cNvPicPr/>
            <p:nvPr/>
          </p:nvPicPr>
          <p:blipFill>
            <a:blip r:embed="rId1"/>
            <a:stretch/>
          </p:blipFill>
          <p:spPr>
            <a:xfrm>
              <a:off x="225360" y="1809720"/>
              <a:ext cx="21700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8" name=""/>
            <p:cNvSpPr/>
            <p:nvPr/>
          </p:nvSpPr>
          <p:spPr>
            <a:xfrm>
              <a:off x="378000" y="1893960"/>
              <a:ext cx="18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400" spc="-1" strike="noStrike">
                  <a:solidFill>
                    <a:srgbClr val="0070c0"/>
                  </a:solidFill>
                  <a:latin typeface="华文楷体"/>
                  <a:ea typeface="华文楷体"/>
                </a:rPr>
                <a:t>、阐述人生苦乐缘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9" name="Text Box 3"/>
          <p:cNvSpPr/>
          <p:nvPr/>
        </p:nvSpPr>
        <p:spPr>
          <a:xfrm>
            <a:off x="5143680" y="19782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正面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华文楷体"/>
                <a:ea typeface="华文楷体"/>
              </a:rPr>
              <a:t>说理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0" name="Text Box 4"/>
          <p:cNvGrpSpPr/>
          <p:nvPr/>
        </p:nvGrpSpPr>
        <p:grpSpPr>
          <a:xfrm>
            <a:off x="152280" y="3309840"/>
            <a:ext cx="2060640" cy="1000080"/>
            <a:chOff x="152280" y="3309840"/>
            <a:chExt cx="2060640" cy="1000080"/>
          </a:xfrm>
        </p:grpSpPr>
        <p:pic>
          <p:nvPicPr>
            <p:cNvPr id="1501" name="Text Box 4" descr=""/>
            <p:cNvPicPr/>
            <p:nvPr/>
          </p:nvPicPr>
          <p:blipFill>
            <a:blip r:embed="rId2"/>
            <a:stretch/>
          </p:blipFill>
          <p:spPr>
            <a:xfrm>
              <a:off x="152280" y="3309840"/>
              <a:ext cx="20606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2" name=""/>
            <p:cNvSpPr/>
            <p:nvPr/>
          </p:nvSpPr>
          <p:spPr>
            <a:xfrm>
              <a:off x="306360" y="3389400"/>
              <a:ext cx="18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400" spc="-1" strike="noStrike">
                  <a:solidFill>
                    <a:srgbClr val="0070c0"/>
                  </a:solidFill>
                  <a:latin typeface="华文楷体"/>
                  <a:ea typeface="华文楷体"/>
                </a:rPr>
                <a:t>、两种人生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AutoShape 5"/>
          <p:cNvSpPr/>
          <p:nvPr/>
        </p:nvSpPr>
        <p:spPr>
          <a:xfrm>
            <a:off x="2289240" y="3100320"/>
            <a:ext cx="142920" cy="129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 Box 6"/>
          <p:cNvSpPr/>
          <p:nvPr/>
        </p:nvSpPr>
        <p:spPr>
          <a:xfrm>
            <a:off x="2433600" y="295740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无业游民，日子难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7"/>
          <p:cNvSpPr/>
          <p:nvPr/>
        </p:nvSpPr>
        <p:spPr>
          <a:xfrm>
            <a:off x="2505240" y="39654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厌恶本业，逃脱不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AutoShape 8"/>
          <p:cNvSpPr/>
          <p:nvPr/>
        </p:nvSpPr>
        <p:spPr>
          <a:xfrm>
            <a:off x="5600880" y="3100320"/>
            <a:ext cx="144360" cy="1224000"/>
          </a:xfrm>
          <a:custGeom>
            <a:avLst/>
            <a:gdLst>
              <a:gd name="textAreaLeft" fmla="*/ 0 w 144360"/>
              <a:gd name="textAreaRight" fmla="*/ 5220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9"/>
          <p:cNvSpPr/>
          <p:nvPr/>
        </p:nvSpPr>
        <p:spPr>
          <a:xfrm>
            <a:off x="5786280" y="3192480"/>
            <a:ext cx="13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反面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华文楷体"/>
                <a:ea typeface="华文楷体"/>
              </a:rPr>
              <a:t>举例论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8" name="Text Box 10"/>
          <p:cNvGrpSpPr/>
          <p:nvPr/>
        </p:nvGrpSpPr>
        <p:grpSpPr>
          <a:xfrm>
            <a:off x="7218360" y="1378080"/>
            <a:ext cx="1797120" cy="3595680"/>
            <a:chOff x="7218360" y="1378080"/>
            <a:chExt cx="1797120" cy="3595680"/>
          </a:xfrm>
        </p:grpSpPr>
        <p:pic>
          <p:nvPicPr>
            <p:cNvPr id="1509" name="Text Box 10" descr=""/>
            <p:cNvPicPr/>
            <p:nvPr/>
          </p:nvPicPr>
          <p:blipFill>
            <a:blip r:embed="rId3"/>
            <a:stretch/>
          </p:blipFill>
          <p:spPr>
            <a:xfrm>
              <a:off x="7218360" y="1378080"/>
              <a:ext cx="179712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0" name=""/>
            <p:cNvSpPr/>
            <p:nvPr/>
          </p:nvSpPr>
          <p:spPr>
            <a:xfrm>
              <a:off x="7671240" y="1549440"/>
              <a:ext cx="1277640" cy="31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华文楷体"/>
                  <a:ea typeface="华文楷体"/>
                </a:rPr>
                <a:t>强调要“乐业”的原因：“乐业”才是人生更高的境界和价值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1" name="Line 11"/>
          <p:cNvSpPr/>
          <p:nvPr/>
        </p:nvSpPr>
        <p:spPr>
          <a:xfrm>
            <a:off x="2163600" y="2322360"/>
            <a:ext cx="648000" cy="0"/>
          </a:xfrm>
          <a:prstGeom prst="line">
            <a:avLst/>
          </a:prstGeom>
          <a:ln w="2844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Text Box 12"/>
          <p:cNvGrpSpPr/>
          <p:nvPr/>
        </p:nvGrpSpPr>
        <p:grpSpPr>
          <a:xfrm>
            <a:off x="225360" y="4883040"/>
            <a:ext cx="2157480" cy="1005120"/>
            <a:chOff x="225360" y="4883040"/>
            <a:chExt cx="2157480" cy="1005120"/>
          </a:xfrm>
        </p:grpSpPr>
        <p:pic>
          <p:nvPicPr>
            <p:cNvPr id="1513" name="Text Box 12" descr=""/>
            <p:cNvPicPr/>
            <p:nvPr/>
          </p:nvPicPr>
          <p:blipFill>
            <a:blip r:embed="rId4"/>
            <a:stretch/>
          </p:blipFill>
          <p:spPr>
            <a:xfrm>
              <a:off x="225360" y="4883040"/>
              <a:ext cx="21574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4" name=""/>
            <p:cNvSpPr/>
            <p:nvPr/>
          </p:nvSpPr>
          <p:spPr>
            <a:xfrm>
              <a:off x="378000" y="496584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0c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400" spc="-1" strike="noStrike">
                  <a:solidFill>
                    <a:srgbClr val="0070c0"/>
                  </a:solidFill>
                  <a:latin typeface="华文楷体"/>
                  <a:ea typeface="华文楷体"/>
                </a:rPr>
                <a:t>、怎样“乐业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Line 13"/>
          <p:cNvSpPr/>
          <p:nvPr/>
        </p:nvSpPr>
        <p:spPr>
          <a:xfrm>
            <a:off x="2144880" y="5332320"/>
            <a:ext cx="792000" cy="0"/>
          </a:xfrm>
          <a:prstGeom prst="line">
            <a:avLst/>
          </a:prstGeom>
          <a:ln w="2844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14"/>
          <p:cNvSpPr/>
          <p:nvPr/>
        </p:nvSpPr>
        <p:spPr>
          <a:xfrm>
            <a:off x="3060720" y="490068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四个方面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AutoShape 15"/>
          <p:cNvSpPr/>
          <p:nvPr/>
        </p:nvSpPr>
        <p:spPr>
          <a:xfrm>
            <a:off x="4809960" y="526104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8" name="Text Box 16"/>
          <p:cNvGrpSpPr/>
          <p:nvPr/>
        </p:nvGrpSpPr>
        <p:grpSpPr>
          <a:xfrm>
            <a:off x="5797440" y="4883040"/>
            <a:ext cx="3029040" cy="1371600"/>
            <a:chOff x="5797440" y="4883040"/>
            <a:chExt cx="3029040" cy="1371600"/>
          </a:xfrm>
        </p:grpSpPr>
        <p:pic>
          <p:nvPicPr>
            <p:cNvPr id="1519" name="Text Box 16" descr=""/>
            <p:cNvPicPr/>
            <p:nvPr/>
          </p:nvPicPr>
          <p:blipFill>
            <a:blip r:embed="rId5"/>
            <a:stretch/>
          </p:blipFill>
          <p:spPr>
            <a:xfrm>
              <a:off x="5797440" y="4883040"/>
              <a:ext cx="30290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0" name=""/>
            <p:cNvSpPr/>
            <p:nvPr/>
          </p:nvSpPr>
          <p:spPr>
            <a:xfrm>
              <a:off x="5950080" y="496584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华文楷体"/>
                  <a:ea typeface="华文楷体"/>
                </a:rPr>
                <a:t>论证了“凡职业都是有趣味的”的道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Text Box 17"/>
          <p:cNvSpPr/>
          <p:nvPr/>
        </p:nvSpPr>
        <p:spPr>
          <a:xfrm>
            <a:off x="2000160" y="56926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（道理论证、引用论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 Box 23"/>
          <p:cNvSpPr/>
          <p:nvPr/>
        </p:nvSpPr>
        <p:spPr>
          <a:xfrm>
            <a:off x="2792520" y="187632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于主观的心，不在客观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24"/>
          <p:cNvSpPr/>
          <p:nvPr/>
        </p:nvSpPr>
        <p:spPr>
          <a:xfrm>
            <a:off x="4952880" y="1949400"/>
            <a:ext cx="144720" cy="647640"/>
          </a:xfrm>
          <a:custGeom>
            <a:avLst/>
            <a:gdLst>
              <a:gd name="textAreaLeft" fmla="*/ 0 w 144720"/>
              <a:gd name="textAreaRight" fmla="*/ 5220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3"/>
          <p:cNvSpPr/>
          <p:nvPr/>
        </p:nvSpPr>
        <p:spPr>
          <a:xfrm>
            <a:off x="1979640" y="957240"/>
            <a:ext cx="552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是怎样论述乐业的重要性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2"/>
          <p:cNvSpPr/>
          <p:nvPr/>
        </p:nvSpPr>
        <p:spPr>
          <a:xfrm>
            <a:off x="0" y="728640"/>
            <a:ext cx="1871640" cy="58140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合作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9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Text Box 4"/>
          <p:cNvSpPr/>
          <p:nvPr/>
        </p:nvSpPr>
        <p:spPr>
          <a:xfrm>
            <a:off x="357120" y="16160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“凡职业都是有趣味的，只要你肯继续做下去，趣味自然会发生。”你同意这个观点吗？作者目的在于说明什么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 Box 5"/>
          <p:cNvSpPr/>
          <p:nvPr/>
        </p:nvSpPr>
        <p:spPr>
          <a:xfrm>
            <a:off x="500040" y="27590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同意。因为无论从事什么职业，往往都要承受压力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面对挑战，但当解决重重困难，获得美满的结果时，就会有一种成功感和满足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 Box 6"/>
          <p:cNvSpPr/>
          <p:nvPr/>
        </p:nvSpPr>
        <p:spPr>
          <a:xfrm>
            <a:off x="571680" y="390204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不同意。因为有些职业过于单调乏味，缺乏创造乐趣的客观条件。如包装工、掏粪工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7"/>
          <p:cNvSpPr/>
          <p:nvPr/>
        </p:nvSpPr>
        <p:spPr>
          <a:xfrm>
            <a:off x="500040" y="47592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方正姚体"/>
                <a:ea typeface="方正姚体"/>
              </a:rPr>
              <a:t>作者的目的在于说明：人应该“乐业”，只有能从自己的职业中领略出趣味来，才会感到生活有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椭圆 6"/>
          <p:cNvSpPr/>
          <p:nvPr/>
        </p:nvSpPr>
        <p:spPr>
          <a:xfrm>
            <a:off x="214200" y="608040"/>
            <a:ext cx="2428920" cy="7142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琥珀"/>
                <a:ea typeface="华文琥珀"/>
              </a:rPr>
              <a:t>问题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2" descr="00089_JPTUQCCEsLbR"/>
          <p:cNvPicPr/>
          <p:nvPr/>
        </p:nvPicPr>
        <p:blipFill>
          <a:blip r:embed="rId1"/>
          <a:stretch/>
        </p:blipFill>
        <p:spPr>
          <a:xfrm>
            <a:off x="0" y="5918040"/>
            <a:ext cx="914400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Text Box 4"/>
          <p:cNvSpPr/>
          <p:nvPr/>
        </p:nvSpPr>
        <p:spPr>
          <a:xfrm>
            <a:off x="214200" y="11066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作者在文章中提出了许多有关敬业和乐业的观点（找出并做好记号），你最信服的是哪一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有没有不同意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说你持这种意见的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矩形 3"/>
          <p:cNvSpPr/>
          <p:nvPr/>
        </p:nvSpPr>
        <p:spPr>
          <a:xfrm>
            <a:off x="324000" y="2392200"/>
            <a:ext cx="853884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敬业乐业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四个字，是人类生活的不二法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人类一面为生活而劳动，一面也是为劳动而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凡职业没有不是神圣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凡职业没有不是可敬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人生在世，是要天天劳作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劳作便是功德，不劳作便是罪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因自己的才能、境地，做一种劳作做到圆满，便是天地间第一等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图片 2" descr="200812260382317918.jpg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1535" name="Text Box 4"/>
          <p:cNvSpPr/>
          <p:nvPr/>
        </p:nvSpPr>
        <p:spPr>
          <a:xfrm>
            <a:off x="285840" y="1143000"/>
            <a:ext cx="8535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凡做一件事，便把这件事看做我的生命，无论别的什么好处，到底不肯牺牲我现在做的事来和他交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敬业主义，于人生最为必要，又于人生最为有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从劳苦中找出快乐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凡职业都是有趣味的，只要你肯继续做下去，趣味自然会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每一职业之成就，离不了奋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因为每一职业之成就，离不了奋斗；一步一步地奋斗前去，从刻苦中将快乐的分量加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人生能从自己职业中领略出趣味，生活才有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  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敬业即是责任心，乐业即是趣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Text Box 2"/>
          <p:cNvSpPr/>
          <p:nvPr/>
        </p:nvSpPr>
        <p:spPr>
          <a:xfrm>
            <a:off x="214200" y="1301760"/>
            <a:ext cx="84981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e3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论证条理清晰，论据生动有力。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这篇讲演词开头提出了论题，中间主体部分分两层论述敬业和乐业的重要，末尾总结全篇。条理很清晰。证明论点的过程，举了多种论据：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生活中的实例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方正姚体"/>
                <a:ea typeface="方正姚体"/>
              </a:rPr>
              <a:t>古代、外国著作中的事例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有作者亲身经历中卓有成效的经验，还有古人的流传至今的名言警句等。这些论据的精选运用，使讲演词具体、生动，富有说服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3"/>
          <p:cNvSpPr/>
          <p:nvPr/>
        </p:nvSpPr>
        <p:spPr>
          <a:xfrm>
            <a:off x="0" y="730080"/>
            <a:ext cx="2000160" cy="58140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琥珀"/>
                <a:ea typeface="华文琥珀"/>
              </a:rPr>
              <a:t>写作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4"/>
          <p:cNvSpPr/>
          <p:nvPr/>
        </p:nvSpPr>
        <p:spPr>
          <a:xfrm>
            <a:off x="428760" y="36590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语言特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6"/>
          <p:cNvSpPr/>
          <p:nvPr/>
        </p:nvSpPr>
        <p:spPr>
          <a:xfrm>
            <a:off x="2011680" y="4667400"/>
            <a:ext cx="4341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引用古籍名言时，用通俗的口语进行解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语言通俗，如话家常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结合演讲时的情境，注意与听众现场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8"/>
          <p:cNvSpPr/>
          <p:nvPr/>
        </p:nvSpPr>
        <p:spPr>
          <a:xfrm>
            <a:off x="5094000" y="3732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大量引用经典、格言，增强说服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10"/>
          <p:cNvSpPr/>
          <p:nvPr/>
        </p:nvSpPr>
        <p:spPr>
          <a:xfrm>
            <a:off x="4391640" y="4235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举例子证明自己的观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2" name="Picture 5" descr="10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6054840"/>
          </a:xfrm>
          <a:prstGeom prst="rect">
            <a:avLst/>
          </a:prstGeom>
          <a:ln w="0">
            <a:noFill/>
          </a:ln>
        </p:spPr>
      </p:pic>
      <p:sp>
        <p:nvSpPr>
          <p:cNvPr id="1543" name="Rectangle 6"/>
          <p:cNvSpPr/>
          <p:nvPr/>
        </p:nvSpPr>
        <p:spPr>
          <a:xfrm>
            <a:off x="3059280" y="620640"/>
            <a:ext cx="2530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7"/>
          <p:cNvSpPr/>
          <p:nvPr/>
        </p:nvSpPr>
        <p:spPr>
          <a:xfrm>
            <a:off x="1143000" y="1428840"/>
            <a:ext cx="65516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梁启超十一岁时所作的一首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望凌云塔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　朝望凌云塔， 引领望四极，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　暮望凌云塔， 天地渐昏黑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　日月有晦明， 四时寒暑易，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　为何多变幻， 此理无人识？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　我欲问苍天， 苍天长默默，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　我欲问孔子， 孔子难解释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　搔首独徘徊， 此理终难得！ 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8"/>
          <p:cNvSpPr/>
          <p:nvPr/>
        </p:nvSpPr>
        <p:spPr>
          <a:xfrm>
            <a:off x="0" y="549360"/>
            <a:ext cx="1979640" cy="58140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琥珀"/>
                <a:ea typeface="华文琥珀"/>
              </a:rPr>
              <a:t>课外积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3"/>
          <p:cNvSpPr/>
          <p:nvPr/>
        </p:nvSpPr>
        <p:spPr>
          <a:xfrm>
            <a:off x="214200" y="1155600"/>
            <a:ext cx="86407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梁启超是中国近代史上著名的资产阶级维新运动领导人，同时也是中国近代思想文化界的一位巨擘，他一生著述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400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万字。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世纪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年代，他致力于中国文化的现代化，写下了大量著作。他身体原本很强健，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926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年初因便血在北京协和医院开刀后，却时时被疾病缠绕，直至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929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9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日以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57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岁的壮年逝世。 那么，梁启超壮年去世的原因是什么呢？近读张清平著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林徽因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一书，才揭开了谜底。原来，导致梁启超壮年逝世的直接原因是一次医疗事故。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926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月，梁启超因便血入协和医院诊治。诊断结果是一侧肾患结核已坏死，决定手术切除。手术由协和医院院长刘瑞恒主刀，但刘瑞恒判断失误，竟将健康的肾切去，而留下了坏死的肾。这样，虽然进行了手术，但梁启超却仍然时轻时重地尿血，稍一劳累就会长时间尿潴留。此后，梁启超多次入协和医院治疗，但已无法根治，终致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929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月溘然长逝。 对这一重大医疗事故，协和医院方面严格保密。事故责任人刘瑞恒后来调离了医院，到卫生部做了政务次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4"/>
          <p:cNvSpPr/>
          <p:nvPr/>
        </p:nvSpPr>
        <p:spPr>
          <a:xfrm>
            <a:off x="2928960" y="655560"/>
            <a:ext cx="40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梁启超壮年逝世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-36360" y="2251080"/>
            <a:ext cx="88581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直到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949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年，医学教师在讲授如何从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光片中辨别左右肾时，才举出了这一病例。而梁启超之子、建筑大师梁思成直到</a:t>
            </a:r>
            <a:r>
              <a:rPr b="0" lang="en-US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方正中等线_GBK"/>
                <a:ea typeface="方正中等线_GBK"/>
              </a:rPr>
              <a:t>年因病住进协和医院，才从自己的主治医生那里得知了事情的真相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2"/>
          <p:cNvSpPr/>
          <p:nvPr/>
        </p:nvSpPr>
        <p:spPr>
          <a:xfrm>
            <a:off x="3643200" y="1714680"/>
            <a:ext cx="5256360" cy="43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梁启超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(1873-1929)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字卓如，号任公，又号饮冰室主人。广东新会人。清光绪举人。中国近代维新派领袖，学者。和其师康有为一起，倡导变法维新，并称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康梁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。著述涉及政治、经济、哲学、历史、语言、宗教及文化艺术、文字音韵等。其著作编为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饮冰室全集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9" name="Picture 3" descr="无标题"/>
          <p:cNvPicPr/>
          <p:nvPr/>
        </p:nvPicPr>
        <p:blipFill>
          <a:blip r:embed="rId1"/>
          <a:stretch/>
        </p:blipFill>
        <p:spPr>
          <a:xfrm>
            <a:off x="428760" y="178596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1400" name="Text Box 5"/>
          <p:cNvSpPr/>
          <p:nvPr/>
        </p:nvSpPr>
        <p:spPr>
          <a:xfrm>
            <a:off x="928800" y="785880"/>
            <a:ext cx="2313000" cy="70344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关于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2"/>
          <p:cNvSpPr/>
          <p:nvPr/>
        </p:nvSpPr>
        <p:spPr>
          <a:xfrm>
            <a:off x="2987640" y="620640"/>
            <a:ext cx="2879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梁启超其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2" name="Picture 3" descr="08b910A"/>
          <p:cNvPicPr/>
          <p:nvPr/>
        </p:nvPicPr>
        <p:blipFill>
          <a:blip r:embed="rId1"/>
          <a:stretch/>
        </p:blipFill>
        <p:spPr>
          <a:xfrm>
            <a:off x="179280" y="1484280"/>
            <a:ext cx="2411640" cy="446580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4" descr="liangqichao"/>
          <p:cNvPicPr/>
          <p:nvPr/>
        </p:nvPicPr>
        <p:blipFill>
          <a:blip r:embed="rId2"/>
          <a:stretch/>
        </p:blipFill>
        <p:spPr>
          <a:xfrm>
            <a:off x="4716360" y="1557360"/>
            <a:ext cx="1935360" cy="223200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5" descr="smile6-1"/>
          <p:cNvPicPr/>
          <p:nvPr/>
        </p:nvPicPr>
        <p:blipFill>
          <a:blip r:embed="rId3"/>
          <a:stretch/>
        </p:blipFill>
        <p:spPr>
          <a:xfrm>
            <a:off x="2627280" y="1557360"/>
            <a:ext cx="1871640" cy="208764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6" descr="lqc"/>
          <p:cNvPicPr/>
          <p:nvPr/>
        </p:nvPicPr>
        <p:blipFill>
          <a:blip r:embed="rId4"/>
          <a:stretch/>
        </p:blipFill>
        <p:spPr>
          <a:xfrm>
            <a:off x="6659640" y="1484280"/>
            <a:ext cx="2266920" cy="453708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7" descr="xinsrc_58240dd67f2a4d80ad1a4bbbd7822da5"/>
          <p:cNvPicPr/>
          <p:nvPr/>
        </p:nvPicPr>
        <p:blipFill>
          <a:blip r:embed="rId5"/>
          <a:stretch/>
        </p:blipFill>
        <p:spPr>
          <a:xfrm>
            <a:off x="2627280" y="4005360"/>
            <a:ext cx="396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2"/>
          <p:cNvSpPr/>
          <p:nvPr/>
        </p:nvSpPr>
        <p:spPr>
          <a:xfrm>
            <a:off x="2916360" y="692280"/>
            <a:ext cx="2962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梁启超故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8" name="Picture 3" descr="qichao"/>
          <p:cNvPicPr/>
          <p:nvPr/>
        </p:nvPicPr>
        <p:blipFill>
          <a:blip r:embed="rId1"/>
          <a:stretch/>
        </p:blipFill>
        <p:spPr>
          <a:xfrm>
            <a:off x="395280" y="148428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4" descr="lqc0"/>
          <p:cNvPicPr/>
          <p:nvPr/>
        </p:nvPicPr>
        <p:blipFill>
          <a:blip r:embed="rId2"/>
          <a:stretch/>
        </p:blipFill>
        <p:spPr>
          <a:xfrm>
            <a:off x="4500720" y="1557360"/>
            <a:ext cx="4321080" cy="230508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5" descr="lqc2"/>
          <p:cNvPicPr/>
          <p:nvPr/>
        </p:nvPicPr>
        <p:blipFill>
          <a:blip r:embed="rId3"/>
          <a:stretch/>
        </p:blipFill>
        <p:spPr>
          <a:xfrm>
            <a:off x="468360" y="4005360"/>
            <a:ext cx="3743280" cy="247464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6" descr="a09-01"/>
          <p:cNvPicPr/>
          <p:nvPr/>
        </p:nvPicPr>
        <p:blipFill>
          <a:blip r:embed="rId4"/>
          <a:stretch/>
        </p:blipFill>
        <p:spPr>
          <a:xfrm>
            <a:off x="4500720" y="3933720"/>
            <a:ext cx="4392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Text Box 4"/>
          <p:cNvSpPr/>
          <p:nvPr/>
        </p:nvSpPr>
        <p:spPr>
          <a:xfrm>
            <a:off x="3348000" y="1413000"/>
            <a:ext cx="562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敬业与乐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梁启超先生于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年前在上海中华职业学校为学生所作的演讲，对学生进行职业道德启蒙教育。中国的传统文化是一种有等级色彩的官本位文化，人们奉行“万般皆下品，惟有读书高”的信条，主张“学而优则仕”，鄙视普通职业，尤其是体力劳动，以显亲扬名、出人头地为人生价值取向。因此有很强的针对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Text Box 5"/>
          <p:cNvSpPr/>
          <p:nvPr/>
        </p:nvSpPr>
        <p:spPr>
          <a:xfrm>
            <a:off x="3203640" y="5805360"/>
            <a:ext cx="56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是一篇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演说词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可看做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议论文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Picture 6" descr="F2003080617063400000"/>
          <p:cNvPicPr/>
          <p:nvPr/>
        </p:nvPicPr>
        <p:blipFill>
          <a:blip r:embed="rId1"/>
          <a:stretch/>
        </p:blipFill>
        <p:spPr>
          <a:xfrm>
            <a:off x="250920" y="1628640"/>
            <a:ext cx="2895480" cy="4114800"/>
          </a:xfrm>
          <a:prstGeom prst="rect">
            <a:avLst/>
          </a:prstGeom>
          <a:ln w="0">
            <a:noFill/>
          </a:ln>
        </p:spPr>
      </p:pic>
      <p:sp>
        <p:nvSpPr>
          <p:cNvPr id="1415" name="Text Box 7"/>
          <p:cNvSpPr/>
          <p:nvPr/>
        </p:nvSpPr>
        <p:spPr>
          <a:xfrm>
            <a:off x="755640" y="692280"/>
            <a:ext cx="2232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关于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Text Box 5"/>
          <p:cNvSpPr/>
          <p:nvPr/>
        </p:nvSpPr>
        <p:spPr>
          <a:xfrm>
            <a:off x="1116000" y="1916280"/>
            <a:ext cx="734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   </a:t>
            </a:r>
            <a:r>
              <a:rPr b="0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学习这篇讲演词论证条理清晰，论据生动有力的写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  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理解文章的中心论点，了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敬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乐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重要，以及怎样才能做到敬业与乐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积累经典语句、格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6"/>
          <p:cNvSpPr/>
          <p:nvPr/>
        </p:nvSpPr>
        <p:spPr>
          <a:xfrm>
            <a:off x="3934440" y="10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Text Box 2"/>
          <p:cNvSpPr/>
          <p:nvPr/>
        </p:nvSpPr>
        <p:spPr>
          <a:xfrm>
            <a:off x="324000" y="1052640"/>
            <a:ext cx="856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</a:t>
            </a:r>
            <a:r>
              <a:rPr b="0" lang="zh-CN" sz="3600" spc="-1" strike="noStrike">
                <a:solidFill>
                  <a:srgbClr val="000000"/>
                </a:solidFill>
                <a:latin typeface="方正姚体"/>
                <a:ea typeface="方正姚体"/>
              </a:rPr>
              <a:t>演讲的基本知识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</a:t>
            </a:r>
            <a:r>
              <a:rPr b="0" lang="zh-CN" sz="2800" spc="-1" strike="noStrike">
                <a:solidFill>
                  <a:srgbClr val="ff0066"/>
                </a:solidFill>
                <a:latin typeface="方正姚体"/>
                <a:ea typeface="方正姚体"/>
              </a:rPr>
              <a:t>演讲是以口语表达的方式面对听众，就某一问题发表自己的观点，阐述某一事理的活动</a:t>
            </a: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演讲不仅是宣传和动员群众的手段，而且还是阐明理论观点、发表学术见解的一种手段，同时又是锻炼和培养青年口才的一种手段。演讲时应注意以下几方面要求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①认清对象，确立主旨。即要有针对性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演讲是直接面对听众交流思想和感情的，所以必须了解听众对象，认清环境场合，明确演讲的主旨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②思路清晰，节奏明快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③感情充沛，例证动人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④语言准确，形象生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Oval 3"/>
          <p:cNvSpPr/>
          <p:nvPr/>
        </p:nvSpPr>
        <p:spPr>
          <a:xfrm>
            <a:off x="262080" y="331920"/>
            <a:ext cx="1800000" cy="720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华文仿宋"/>
                <a:ea typeface="华文仿宋"/>
              </a:rPr>
              <a:t>知识链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Picture 20" descr="9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22800"/>
          </a:xfrm>
          <a:prstGeom prst="rect">
            <a:avLst/>
          </a:prstGeom>
          <a:ln w="0">
            <a:noFill/>
          </a:ln>
        </p:spPr>
      </p:pic>
      <p:sp>
        <p:nvSpPr>
          <p:cNvPr id="1421" name="Text Box 21"/>
          <p:cNvSpPr/>
          <p:nvPr/>
        </p:nvSpPr>
        <p:spPr>
          <a:xfrm>
            <a:off x="719280" y="142884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"/>
                <a:ea typeface="楷体_GB2312"/>
              </a:rPr>
              <a:t>旁</a:t>
            </a:r>
            <a:r>
              <a:rPr b="1" lang="zh-CN" sz="2400" spc="-1" strike="noStrike">
                <a:solidFill>
                  <a:srgbClr val="ff0000"/>
                </a:solidFill>
                <a:latin typeface="_x000b_"/>
                <a:ea typeface="楷体_GB2312"/>
              </a:rPr>
              <a:t>骛　      佝偻</a:t>
            </a:r>
            <a:r>
              <a:rPr b="1" lang="zh-CN" sz="2400" spc="-1" strike="noStrike">
                <a:solidFill>
                  <a:srgbClr val="000000"/>
                </a:solidFill>
                <a:latin typeface="_x000b_"/>
                <a:ea typeface="楷体_GB2312"/>
              </a:rPr>
              <a:t>　           承</a:t>
            </a:r>
            <a:r>
              <a:rPr b="1" lang="zh-CN" sz="2400" spc="-1" strike="noStrike">
                <a:solidFill>
                  <a:srgbClr val="ff0000"/>
                </a:solidFill>
                <a:latin typeface="_x000b_"/>
                <a:ea typeface="楷体_GB2312"/>
              </a:rPr>
              <a:t>蜩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_x000b_"/>
                <a:ea typeface="楷体_GB2312"/>
              </a:rPr>
              <a:t>亵</a:t>
            </a:r>
            <a:r>
              <a:rPr b="1" lang="zh-CN" sz="2400" spc="-1" strike="noStrike">
                <a:solidFill>
                  <a:srgbClr val="000000"/>
                </a:solidFill>
                <a:latin typeface="_x000b_"/>
                <a:ea typeface="楷体_GB2312"/>
              </a:rPr>
              <a:t>渎</a:t>
            </a:r>
            <a:r>
              <a:rPr b="1" lang="zh-CN" sz="2400" spc="-1" strike="noStrike">
                <a:solidFill>
                  <a:srgbClr val="000000"/>
                </a:solidFill>
                <a:latin typeface="_x000b_"/>
                <a:ea typeface="楷体_GB2312"/>
              </a:rPr>
              <a:t>　       </a:t>
            </a:r>
            <a:r>
              <a:rPr b="1" lang="zh-CN" sz="2400" spc="-1" strike="noStrike">
                <a:solidFill>
                  <a:srgbClr val="ff0000"/>
                </a:solidFill>
                <a:latin typeface="_x000b_"/>
                <a:ea typeface="楷体_GB2312"/>
              </a:rPr>
              <a:t>骈</a:t>
            </a:r>
            <a:r>
              <a:rPr b="1" lang="zh-CN" sz="2400" spc="-1" strike="noStrike">
                <a:solidFill>
                  <a:srgbClr val="000000"/>
                </a:solidFill>
                <a:latin typeface="_x000b_"/>
                <a:ea typeface="楷体_GB2312"/>
              </a:rPr>
              <a:t>进　          </a:t>
            </a:r>
            <a:r>
              <a:rPr b="1" lang="zh-CN" sz="2400" spc="-1" strike="noStrike">
                <a:solidFill>
                  <a:srgbClr val="ff0000"/>
                </a:solidFill>
                <a:latin typeface="_x000b_"/>
                <a:ea typeface="楷体_GB2312"/>
              </a:rPr>
              <a:t>强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22"/>
          <p:cNvSpPr/>
          <p:nvPr/>
        </p:nvSpPr>
        <p:spPr>
          <a:xfrm>
            <a:off x="5984280" y="19162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_x000b_"/>
              </a:rPr>
              <a:t>qi</a:t>
            </a:r>
            <a:r>
              <a:rPr b="0" lang="en-US" sz="2000" spc="-1" strike="noStrike">
                <a:solidFill>
                  <a:srgbClr val="000000"/>
                </a:solidFill>
                <a:latin typeface="_x000b_"/>
                <a:ea typeface="楷体_GB2312"/>
              </a:rPr>
              <a:t>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_x000b_"/>
              </a:rPr>
              <a:t>ng gu</a:t>
            </a:r>
            <a:r>
              <a:rPr b="0" lang="en-US" sz="2000" spc="-1" strike="noStrike">
                <a:solidFill>
                  <a:srgbClr val="000000"/>
                </a:solidFill>
                <a:latin typeface="_x000b_"/>
                <a:ea typeface="楷体_GB2312"/>
              </a:rPr>
              <a:t>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23"/>
          <p:cNvSpPr/>
          <p:nvPr/>
        </p:nvSpPr>
        <p:spPr>
          <a:xfrm>
            <a:off x="6147000" y="1500120"/>
            <a:ext cx="5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iá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24"/>
          <p:cNvSpPr/>
          <p:nvPr/>
        </p:nvSpPr>
        <p:spPr>
          <a:xfrm>
            <a:off x="3574440" y="1928880"/>
            <a:ext cx="6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i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25"/>
          <p:cNvSpPr/>
          <p:nvPr/>
        </p:nvSpPr>
        <p:spPr>
          <a:xfrm>
            <a:off x="3422160" y="148428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ōu  ló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26"/>
          <p:cNvSpPr/>
          <p:nvPr/>
        </p:nvSpPr>
        <p:spPr>
          <a:xfrm>
            <a:off x="1500120" y="2000160"/>
            <a:ext cx="4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i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27"/>
          <p:cNvSpPr/>
          <p:nvPr/>
        </p:nvSpPr>
        <p:spPr>
          <a:xfrm>
            <a:off x="1508400" y="150012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28"/>
          <p:cNvSpPr/>
          <p:nvPr/>
        </p:nvSpPr>
        <p:spPr>
          <a:xfrm>
            <a:off x="785880" y="1071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读准字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29"/>
          <p:cNvSpPr/>
          <p:nvPr/>
        </p:nvSpPr>
        <p:spPr>
          <a:xfrm>
            <a:off x="0" y="549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检查预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30"/>
          <p:cNvSpPr/>
          <p:nvPr/>
        </p:nvSpPr>
        <p:spPr>
          <a:xfrm>
            <a:off x="1143000" y="3000240"/>
            <a:ext cx="464832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亵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骈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断章取义：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心无旁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强聒不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31"/>
          <p:cNvSpPr/>
          <p:nvPr/>
        </p:nvSpPr>
        <p:spPr>
          <a:xfrm>
            <a:off x="2700360" y="414972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不顾全篇内容，只是根据自己需要孤立地取其中一段或一句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32"/>
          <p:cNvSpPr/>
          <p:nvPr/>
        </p:nvSpPr>
        <p:spPr>
          <a:xfrm>
            <a:off x="2700360" y="494172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心中没有正业以外的任何追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33"/>
          <p:cNvSpPr/>
          <p:nvPr/>
        </p:nvSpPr>
        <p:spPr>
          <a:xfrm>
            <a:off x="2643120" y="5500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硬要啰唆个不停。聒，喧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34"/>
          <p:cNvSpPr/>
          <p:nvPr/>
        </p:nvSpPr>
        <p:spPr>
          <a:xfrm>
            <a:off x="2286000" y="30718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轻慢，不尊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35"/>
          <p:cNvSpPr/>
          <p:nvPr/>
        </p:nvSpPr>
        <p:spPr>
          <a:xfrm>
            <a:off x="2357280" y="3643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并进，一起前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36"/>
          <p:cNvSpPr/>
          <p:nvPr/>
        </p:nvSpPr>
        <p:spPr>
          <a:xfrm>
            <a:off x="785880" y="24289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解释下列词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7" name="敬业与乐业朗读.mp3" descr=""/>
          <p:cNvPicPr/>
          <p:nvPr/>
        </p:nvPicPr>
        <p:blipFill>
          <a:blip r:embed="rId2"/>
          <a:stretch/>
        </p:blipFill>
        <p:spPr>
          <a:xfrm>
            <a:off x="7524720" y="981000"/>
            <a:ext cx="140328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437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437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782248" fill="hold"/>
                                        <p:tgtEl>
                                          <p:spTgt spid="1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Text Box 9"/>
          <p:cNvSpPr/>
          <p:nvPr/>
        </p:nvSpPr>
        <p:spPr>
          <a:xfrm>
            <a:off x="0" y="549360"/>
            <a:ext cx="1871640" cy="581400"/>
          </a:xfrm>
          <a:prstGeom prst="rect">
            <a:avLst/>
          </a:prstGeom>
          <a:solidFill>
            <a:srgbClr val="f5cd2d"/>
          </a:solidFill>
          <a:ln w="34920">
            <a:solidFill>
              <a:srgbClr val="ffffff"/>
            </a:solidFill>
            <a:miter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自主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0"/>
          <p:cNvSpPr/>
          <p:nvPr/>
        </p:nvSpPr>
        <p:spPr>
          <a:xfrm>
            <a:off x="428760" y="1428840"/>
            <a:ext cx="46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作者先后谈论了哪几个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11"/>
          <p:cNvSpPr/>
          <p:nvPr/>
        </p:nvSpPr>
        <p:spPr>
          <a:xfrm>
            <a:off x="2498040" y="2214720"/>
            <a:ext cx="8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你认为这几个问题的关系怎样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3"/>
          <p:cNvSpPr/>
          <p:nvPr/>
        </p:nvSpPr>
        <p:spPr>
          <a:xfrm>
            <a:off x="3944880" y="26431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有业是前提，敬业是基础，乐业才是最高境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4"/>
          <p:cNvSpPr/>
          <p:nvPr/>
        </p:nvSpPr>
        <p:spPr>
          <a:xfrm>
            <a:off x="1071720" y="1857240"/>
            <a:ext cx="46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有业；敬业；乐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Text Box 15"/>
          <p:cNvSpPr/>
          <p:nvPr/>
        </p:nvSpPr>
        <p:spPr>
          <a:xfrm>
            <a:off x="468360" y="2997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根据你对文章的理解，概括文章结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Text Box 16"/>
          <p:cNvSpPr/>
          <p:nvPr/>
        </p:nvSpPr>
        <p:spPr>
          <a:xfrm>
            <a:off x="650880" y="3786120"/>
            <a:ext cx="5461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敬业与乐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AutoShape 17"/>
          <p:cNvSpPr/>
          <p:nvPr/>
        </p:nvSpPr>
        <p:spPr>
          <a:xfrm>
            <a:off x="1332000" y="3500280"/>
            <a:ext cx="144360" cy="2665440"/>
          </a:xfrm>
          <a:custGeom>
            <a:avLst/>
            <a:gdLst>
              <a:gd name="textAreaLeft" fmla="*/ 92160 w 144360"/>
              <a:gd name="textAreaRight" fmla="*/ 144360 w 144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8"/>
          <p:cNvSpPr/>
          <p:nvPr/>
        </p:nvSpPr>
        <p:spPr>
          <a:xfrm>
            <a:off x="1547640" y="3573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提出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19"/>
          <p:cNvSpPr/>
          <p:nvPr/>
        </p:nvSpPr>
        <p:spPr>
          <a:xfrm>
            <a:off x="1476360" y="46530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析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Text Box 20"/>
          <p:cNvSpPr/>
          <p:nvPr/>
        </p:nvSpPr>
        <p:spPr>
          <a:xfrm>
            <a:off x="1476360" y="56610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21"/>
          <p:cNvSpPr/>
          <p:nvPr/>
        </p:nvSpPr>
        <p:spPr>
          <a:xfrm>
            <a:off x="3203640" y="378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22"/>
          <p:cNvSpPr/>
          <p:nvPr/>
        </p:nvSpPr>
        <p:spPr>
          <a:xfrm>
            <a:off x="2987640" y="4724280"/>
            <a:ext cx="11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23"/>
          <p:cNvSpPr/>
          <p:nvPr/>
        </p:nvSpPr>
        <p:spPr>
          <a:xfrm>
            <a:off x="3059280" y="56610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24"/>
          <p:cNvSpPr/>
          <p:nvPr/>
        </p:nvSpPr>
        <p:spPr>
          <a:xfrm>
            <a:off x="3851280" y="3645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揭示全文论述的中心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敬业与乐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Text Box 25"/>
          <p:cNvSpPr/>
          <p:nvPr/>
        </p:nvSpPr>
        <p:spPr>
          <a:xfrm>
            <a:off x="3924360" y="4653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论述敬业、乐业的重要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Text Box 26"/>
          <p:cNvSpPr/>
          <p:nvPr/>
        </p:nvSpPr>
        <p:spPr>
          <a:xfrm>
            <a:off x="3708360" y="5661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总结全文，勉励人们敬业乐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Text Box 27"/>
          <p:cNvSpPr/>
          <p:nvPr/>
        </p:nvSpPr>
        <p:spPr>
          <a:xfrm>
            <a:off x="78120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Text Box 28"/>
          <p:cNvSpPr/>
          <p:nvPr/>
        </p:nvSpPr>
        <p:spPr>
          <a:xfrm>
            <a:off x="7858080" y="450072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 Box 29"/>
          <p:cNvSpPr/>
          <p:nvPr/>
        </p:nvSpPr>
        <p:spPr>
          <a:xfrm>
            <a:off x="7812000" y="5589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30"/>
          <p:cNvSpPr/>
          <p:nvPr/>
        </p:nvSpPr>
        <p:spPr>
          <a:xfrm>
            <a:off x="2124000" y="4005360"/>
            <a:ext cx="0" cy="64764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31"/>
          <p:cNvSpPr/>
          <p:nvPr/>
        </p:nvSpPr>
        <p:spPr>
          <a:xfrm>
            <a:off x="2124000" y="5157720"/>
            <a:ext cx="0" cy="57492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32"/>
          <p:cNvSpPr/>
          <p:nvPr/>
        </p:nvSpPr>
        <p:spPr>
          <a:xfrm>
            <a:off x="8101080" y="3933720"/>
            <a:ext cx="0" cy="50328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33"/>
          <p:cNvSpPr/>
          <p:nvPr/>
        </p:nvSpPr>
        <p:spPr>
          <a:xfrm>
            <a:off x="8028000" y="5084640"/>
            <a:ext cx="0" cy="505080"/>
          </a:xfrm>
          <a:prstGeom prst="line">
            <a:avLst/>
          </a:prstGeom>
          <a:ln w="120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2" name="Picture 4" descr="nanakamado103s"/>
          <p:cNvPicPr/>
          <p:nvPr/>
        </p:nvPicPr>
        <p:blipFill>
          <a:blip r:embed="rId1"/>
          <a:stretch/>
        </p:blipFill>
        <p:spPr>
          <a:xfrm>
            <a:off x="6715080" y="571680"/>
            <a:ext cx="2428920" cy="2143080"/>
          </a:xfrm>
          <a:prstGeom prst="rect">
            <a:avLst/>
          </a:prstGeom>
          <a:ln w="0">
            <a:noFill/>
          </a:ln>
        </p:spPr>
      </p:pic>
      <p:sp>
        <p:nvSpPr>
          <p:cNvPr id="1463" name="TextBox 26"/>
          <p:cNvSpPr/>
          <p:nvPr/>
        </p:nvSpPr>
        <p:spPr>
          <a:xfrm>
            <a:off x="1857240" y="100008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同学大声朗读课文，完成以下任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06:09:53Z</dcterms:created>
  <dc:creator/>
  <dc:description/>
  <dc:language>en-US</dc:language>
  <cp:lastModifiedBy>Shark</cp:lastModifiedBy>
  <dcterms:modified xsi:type="dcterms:W3CDTF">2020-03-21T22:45:37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90000000000010243100207f6000400038000</vt:lpwstr>
  </property>
</Properties>
</file>