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4.jpeg" ContentType="image/jpeg"/>
  <Override PartName="/ppt/media/image31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30.jpeg" ContentType="image/jpeg"/>
  <Override PartName="/ppt/media/image20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262F-6AEB-4183-BE50-A64820E8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5B3-B5DE-4699-8E6F-DEBA15DA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AB2-DE10-42F1-BC2D-10CD38474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5C9-63F5-42B8-BB86-FDCF2001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492C-4D79-4206-A71E-CD84C9CD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5DF2-5265-4199-BC0E-41AD9D89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D870-2F36-492D-B702-2D896E26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17D-97A7-4F14-9470-E9B2BBEB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15A-7772-4785-AE83-907ABFC2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1BB5-F321-40C6-AB11-CBCDA1A6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F3F5-5059-4702-9757-A6C53CFA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FD6-4637-4870-A65E-AB9A58C4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C79A-CD6F-452D-8DB0-8DB7AE1D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86E-CCEB-4856-9F0E-1BF27CA5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72A0-A100-4FD1-ADCA-59D1A54E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4E2F-BB2A-4683-9E55-9BF14F04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17F1-14EB-47CA-BE26-49D6E8D9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9DAA-3AB8-4614-B212-8A3B338E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EE20-97B0-4000-AA6F-17AC2B5E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5B24A-D8E4-401C-9D0A-31E0D460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6F3F-5A84-4065-8382-906291A3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93E4-AEBC-44B5-BFE3-8C1EDDDC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347-6157-4BFE-9E08-F0CED5B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82044-23DA-4D1D-8895-C1AACB1B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525DE-60C4-4ABF-B9D1-5B94285A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6FF26-2D54-450A-9564-5D188067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201F-9C78-4B72-9A46-161F8AB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FCA8-1997-4955-BB1E-D83E1B5C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0A05-3DDE-4FB7-9951-408E8481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B02CD-C8DB-4306-BFFD-BDA0CF28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C05-3320-49A8-BD43-DAFABA3D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150-7486-41FA-9A5B-BEB16D90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AD72-B408-4405-B44D-BFB0D88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55D-EDD7-4F8C-AB2C-3D0C55BB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F1D-F7FF-4196-AFCF-E7ACE2E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B1E-4BC6-440F-B8E3-A89CF9AC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23A-D25F-4471-B1CB-612E58396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7a7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7a7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F248-2656-4E7D-BCCC-892ABADF1745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17F6-AA5B-4CEF-B9EB-BEA2B0DBCE33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844000" y="950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华文彩云"/>
              </a:rPr>
              <a:t>湖心亭看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21680" y="32893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张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0"/>
            <a:ext cx="8964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预习检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幼圆"/>
              </a:rPr>
              <a:t>请读准下列词语，特别注意画线字的    读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崇祯      毳衣   雾淞  毡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沆砀      长堤    喃喃     痴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27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zhē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20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2781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cu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08720" y="2781360"/>
            <a:ext cx="143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s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4360" y="27813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z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581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d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4581360"/>
            <a:ext cx="96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n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8720" y="4581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ch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3040" y="4508640"/>
            <a:ext cx="275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hàngd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260280"/>
            <a:ext cx="832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张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中宋"/>
              </a:rPr>
              <a:t>1597—167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）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字宗子，又字石公，号陶庵。明末清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山阴人。著有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《陶庵梦忆》《西湖梦寻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《快园道古》等。他是明末小品文的代表作家。其作品多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回忆往日生活，寄寓着故国之思，也流露了不少伤感情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，写的清丽活泼，细腻生动，极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诗情画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380880"/>
            <a:ext cx="64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隶书"/>
              </a:rPr>
              <a:t>二、注意下列词语的翻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295280"/>
            <a:ext cx="816948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9933"/>
                </a:solidFill>
                <a:uFillTx/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日：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惟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更</a:t>
            </a:r>
            <a:r>
              <a:rPr b="1" lang="zh-CN" sz="3200" spc="-1" strike="noStrike" u="sng">
                <a:solidFill>
                  <a:srgbClr val="ff9933"/>
                </a:solidFill>
                <a:uFillTx/>
                <a:latin typeface="Times New Roman"/>
              </a:rPr>
              <a:t>定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：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9933"/>
                </a:solidFill>
                <a:uFillTx/>
                <a:latin typeface="Times New Roman"/>
              </a:rPr>
              <a:t>挐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一小船 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ff9933"/>
                </a:solidFill>
                <a:uFillTx/>
                <a:latin typeface="Times New Roman"/>
              </a:rPr>
              <a:t>拥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毳衣炉火 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: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cc"/>
                </a:solidFill>
                <a:latin typeface="Times New Roman"/>
              </a:rPr>
              <a:t>雾凇</a:t>
            </a:r>
            <a:r>
              <a:rPr b="1" lang="zh-CN" sz="3200" spc="-1" strike="noStrike" u="sng">
                <a:solidFill>
                  <a:srgbClr val="ff9933"/>
                </a:solidFill>
                <a:uFillTx/>
                <a:latin typeface="Times New Roman"/>
              </a:rPr>
              <a:t>沆砀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而已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12960" y="146844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144792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代词，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84360" y="2154240"/>
            <a:ext cx="161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55760" y="204948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只，只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60680" y="276372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完了，结束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34974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通“桡”，撑，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32280" y="413532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穿着，带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51040" y="48211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白气弥漫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5562720"/>
            <a:ext cx="361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语气词，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3880" y="37465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是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湖中焉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有此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4005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105264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余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小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上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8960" y="164304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275580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1281240"/>
            <a:ext cx="183960" cy="1044360"/>
          </a:xfrm>
          <a:custGeom>
            <a:avLst/>
            <a:gdLst>
              <a:gd name="textAreaLeft" fmla="*/ 117720 w 183960"/>
              <a:gd name="textAreaRight" fmla="*/ 184320 w 183960"/>
              <a:gd name="textAreaTop" fmla="*/ 27000 h 1044360"/>
              <a:gd name="textAreaBottom" fmla="*/ 1017360 h 10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42480" y="5346720"/>
            <a:ext cx="6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客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112068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数词，译为“一（叶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3645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古时夜间计时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9720" y="5351400"/>
            <a:ext cx="258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客居  （名词作动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556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日更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Times New Roman"/>
              </a:rPr>
              <a:t>是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  <a:ea typeface="Times New Roman"/>
              </a:rPr>
              <a:t>金陵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15160" y="2614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宋体"/>
                <a:ea typeface="黑体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9240" y="3046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宋体"/>
                <a:ea typeface="黑体"/>
              </a:rPr>
              <a:t>判断动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397512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2920" y="28386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79760" y="15098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副词，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21440" y="4221000"/>
            <a:ext cx="66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0"/>
            <a:ext cx="440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知识存储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62064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一字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2360" y="4726080"/>
            <a:ext cx="33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20383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童子烧酒炉正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7960" y="203832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数词，译为“一个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44000" y="6165720"/>
            <a:ext cx="574560" cy="476280"/>
          </a:xfrm>
          <a:custGeom>
            <a:avLst/>
            <a:gdLst>
              <a:gd name="textAreaLeft" fmla="*/ 29520 w 574560"/>
              <a:gd name="textAreaRight" fmla="*/ 545040 w 574560"/>
              <a:gd name="textAreaTop" fmla="*/ 29520 h 476280"/>
              <a:gd name="textAreaBottom" fmla="*/ 446760 h 476280"/>
            </a:gdLst>
            <a:ahLst/>
            <a:rect l="textAreaLeft" t="textAreaTop" r="textAreaRight" b="textAreaBottom"/>
            <a:pathLst>
              <a:path w="26054" h="21600">
                <a:moveTo>
                  <a:pt x="0" y="0"/>
                </a:moveTo>
                <a:lnTo>
                  <a:pt x="26054" y="0"/>
                </a:lnTo>
                <a:lnTo>
                  <a:pt x="26054" y="21600"/>
                </a:lnTo>
                <a:lnTo>
                  <a:pt x="0" y="21600"/>
                </a:lnTo>
                <a:close/>
              </a:path>
              <a:path fill="lightenLess" w="26054" h="21600">
                <a:moveTo>
                  <a:pt x="0" y="0"/>
                </a:moveTo>
                <a:lnTo>
                  <a:pt x="26054" y="0"/>
                </a:lnTo>
                <a:lnTo>
                  <a:pt x="24704" y="1350"/>
                </a:lnTo>
                <a:lnTo>
                  <a:pt x="1350" y="1350"/>
                </a:lnTo>
                <a:close/>
              </a:path>
              <a:path fill="darken" w="26054" h="21600">
                <a:moveTo>
                  <a:pt x="26054" y="0"/>
                </a:moveTo>
                <a:lnTo>
                  <a:pt x="26054" y="21600"/>
                </a:lnTo>
                <a:lnTo>
                  <a:pt x="24704" y="20250"/>
                </a:lnTo>
                <a:lnTo>
                  <a:pt x="24704" y="1350"/>
                </a:lnTo>
                <a:close/>
              </a:path>
              <a:path fill="darkenLess" w="26054" h="21600">
                <a:moveTo>
                  <a:pt x="2605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704" y="20250"/>
                </a:lnTo>
                <a:close/>
              </a:path>
              <a:path fill="lighten" w="2605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054" h="21600">
                <a:moveTo>
                  <a:pt x="16544" y="10800"/>
                </a:moveTo>
                <a:lnTo>
                  <a:pt x="5983" y="17844"/>
                </a:lnTo>
                <a:lnTo>
                  <a:pt x="5983" y="3756"/>
                </a:lnTo>
                <a:close/>
              </a:path>
              <a:path fill="darken" w="26054" h="21600">
                <a:moveTo>
                  <a:pt x="18399" y="3756"/>
                </a:moveTo>
                <a:lnTo>
                  <a:pt x="18399" y="17844"/>
                </a:lnTo>
                <a:lnTo>
                  <a:pt x="20071" y="17844"/>
                </a:lnTo>
                <a:lnTo>
                  <a:pt x="20071" y="3756"/>
                </a:lnTo>
                <a:close/>
              </a:path>
            </a:pathLst>
          </a:custGeom>
          <a:solidFill>
            <a:srgbClr val="e7e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2360" y="5877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宋体-18030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宋体-18030"/>
              </a:rPr>
              <a:t>、通假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16360" y="6021360"/>
            <a:ext cx="51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通“桡”，撑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03640" y="6094440"/>
            <a:ext cx="34452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三、翻译重点句子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湖上影子，惟长堤一痕、湖心亭一点、与余舟一芥、舟中人两三粒而已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湖上影子，只有（淡淡的）一道长堤的痕迹，一点湖心亭的轮廓，和我的一叶小舟，舟中的两三粒人影罢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张岱是一个什么样的人？用文中一个字概括。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8920" y="3933720"/>
            <a:ext cx="1871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痴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痴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痴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619280" y="2637000"/>
            <a:ext cx="17287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痴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3" name=""/>
          <p:cNvSpPr/>
          <p:nvPr/>
        </p:nvSpPr>
        <p:spPr>
          <a:xfrm>
            <a:off x="4067280" y="2997360"/>
            <a:ext cx="439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痴”是执着于山水之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高雅脱俗之情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-466560" y="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92360" y="3213000"/>
            <a:ext cx="1798560" cy="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960" y="1341360"/>
            <a:ext cx="10947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观其痴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63240" y="1457280"/>
            <a:ext cx="10947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赏其痴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3213000"/>
            <a:ext cx="1511640" cy="0"/>
          </a:xfrm>
          <a:prstGeom prst="line">
            <a:avLst/>
          </a:prstGeom>
          <a:ln w="9360">
            <a:solidFill>
              <a:srgbClr val="007a7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256536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痴人之痴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333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痴迷于天人合一的山水之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5516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痴迷于世俗之外的高雅之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2">
            <a:grayscl/>
          </a:blip>
          <a:srcRect l="1244" t="1852" r="2488" b="3704"/>
          <a:stretch/>
        </p:blipFill>
        <p:spPr>
          <a:xfrm>
            <a:off x="539640" y="476280"/>
            <a:ext cx="6193080" cy="6049800"/>
          </a:xfrm>
          <a:prstGeom prst="rect">
            <a:avLst/>
          </a:prstGeom>
          <a:ln w="3240">
            <a:solidFill>
              <a:srgbClr val="5d7bc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4" name=""/>
          <p:cNvSpPr/>
          <p:nvPr/>
        </p:nvSpPr>
        <p:spPr>
          <a:xfrm>
            <a:off x="6445080" y="404640"/>
            <a:ext cx="2374920" cy="5472360"/>
          </a:xfrm>
          <a:prstGeom prst="rect">
            <a:avLst/>
          </a:prstGeom>
          <a:noFill/>
          <a:ln w="38160">
            <a:solidFill>
              <a:srgbClr val="eff6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6699"/>
                </a:solidFill>
                <a:latin typeface="Times New Roman"/>
                <a:ea typeface="华文行楷"/>
              </a:rPr>
              <a:t>  </a:t>
            </a:r>
            <a:r>
              <a:rPr b="0" lang="zh-CN" sz="7200" spc="-1" strike="noStrike">
                <a:solidFill>
                  <a:srgbClr val="666699"/>
                </a:solidFill>
                <a:latin typeface="Times New Roman"/>
                <a:ea typeface="隶书"/>
              </a:rPr>
              <a:t>湖心亭看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880" y="4005360"/>
            <a:ext cx="1155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0c0c0"/>
                </a:solidFill>
                <a:latin typeface="Times New Roman"/>
              </a:rPr>
              <a:t>张 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18360" y="1341360"/>
            <a:ext cx="51411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都言作者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谁解其中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张岱的这种“痴”行背后是一颗怎样的心灵呢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仿宋_GB2312"/>
              </a:rPr>
              <a:t>（找出第一自然节中最能体现作者感情的一个字来，并结合背景材料体会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张岱（１５９７——１６７９）出身于官宦之家，明亡后立誓不仕，只愿入山著书以终。著有《陶庵梦忆》，书中缅怀往昔风月繁华，追忆前尘影事，字里行间流露出深沉的故国之思和沧桑之感。故国，在张岱的生命里，是永远的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62064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仿宋_GB2312"/>
              </a:rPr>
              <a:t>背景材料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768840" y="405720"/>
            <a:ext cx="155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钱塘湖春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孤山寺北贾亭西，水面初平云脚低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几处早莺争暖树，谁家新燕啄春泥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乱花渐欲迷人眼，浅草才能没马蹄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最爱湖东行不足，绿杨阴里白沙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404280"/>
            <a:ext cx="8820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材料二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陶庵国破家亡，无可归宿之处。披头散发进入山中，形状可怕地变成了野人。亲戚朋友一看到我，就象看到了毒药猛兽，愕然地望着，不敢与我接触。我写了《自挽诗》，屡次想自杀，但因《石匮书》未写完，所以还在人间生活。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               </a:t>
            </a:r>
            <a:r>
              <a:rPr b="1" lang="en-US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张岱《陶庵梦忆自序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88059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写给孩子们的话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孤独是自古以来人们咏叹的话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她是屈原 “世人皆醉我独醒”的自我精神世界的捍卫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她是柳宗元“千山鸟飞绝，万径人踪灭。孤舟蓑笠翁，独钓寒江雪。”中对自己清高孤傲节操的坚守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她是陈子昂站在幽州台上吟诵“前不见古人，后不见来者，念天地之悠悠，独怆然而涕下”时，发出的先驱者理想与现实矛盾时雄豪悲壮的感伤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36395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她是作者“一片冰心在玉壶”之爱国情被浇灭后的痴心不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66cc"/>
              </a:solidFill>
              <a:latin typeface="Arial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只有内心世界丰富的人，对精神与灵魂有着执着追求的人，对人间充满挚爱的人，才可能体验真正的孤独，孤独产生于爱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黑体"/>
              </a:rPr>
              <a:t>                                  ——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周国平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543480" y="594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4360" y="549360"/>
            <a:ext cx="266364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7a77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问题探究</a:t>
            </a:r>
            <a:endParaRPr b="0" lang="en-US" sz="1800" spc="-1" strike="noStrike">
              <a:ln w="9360">
                <a:solidFill>
                  <a:srgbClr val="007a77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1844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文中写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雪景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句子，有何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2852640"/>
            <a:ext cx="8388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e0e14"/>
                </a:solidFill>
                <a:latin typeface="隶书"/>
                <a:ea typeface="隶书"/>
              </a:rPr>
              <a:t>   </a:t>
            </a:r>
            <a:r>
              <a:rPr b="0" lang="zh-CN" sz="4400" spc="-1" strike="noStrike">
                <a:solidFill>
                  <a:srgbClr val="0e0e14"/>
                </a:solidFill>
                <a:latin typeface="隶书"/>
                <a:ea typeface="隶书"/>
              </a:rPr>
              <a:t>雾凇沆砀，天与云与山与水，上下一白。湖上影子，惟长堤</a:t>
            </a:r>
            <a:r>
              <a:rPr b="0" lang="zh-CN" sz="4400" spc="-1" strike="noStrike">
                <a:solidFill>
                  <a:srgbClr val="660066"/>
                </a:solidFill>
                <a:latin typeface="隶书"/>
                <a:ea typeface="隶书"/>
              </a:rPr>
              <a:t>一痕</a:t>
            </a:r>
            <a:r>
              <a:rPr b="0" lang="zh-CN" sz="4400" spc="-1" strike="noStrike">
                <a:solidFill>
                  <a:srgbClr val="0e0e14"/>
                </a:solidFill>
                <a:latin typeface="隶书"/>
                <a:ea typeface="隶书"/>
              </a:rPr>
              <a:t>，湖心亭</a:t>
            </a:r>
            <a:r>
              <a:rPr b="0" lang="zh-CN" sz="4400" spc="-1" strike="noStrike">
                <a:solidFill>
                  <a:srgbClr val="660066"/>
                </a:solidFill>
                <a:latin typeface="隶书"/>
                <a:ea typeface="隶书"/>
              </a:rPr>
              <a:t>一点</a:t>
            </a:r>
            <a:r>
              <a:rPr b="0" lang="zh-CN" sz="4400" spc="-1" strike="noStrike">
                <a:solidFill>
                  <a:srgbClr val="0e0e14"/>
                </a:solidFill>
                <a:latin typeface="隶书"/>
                <a:ea typeface="隶书"/>
              </a:rPr>
              <a:t>，与余舟</a:t>
            </a:r>
            <a:r>
              <a:rPr b="0" lang="zh-CN" sz="4400" spc="-1" strike="noStrike">
                <a:solidFill>
                  <a:srgbClr val="660066"/>
                </a:solidFill>
                <a:latin typeface="隶书"/>
                <a:ea typeface="隶书"/>
              </a:rPr>
              <a:t>一芥</a:t>
            </a:r>
            <a:r>
              <a:rPr b="0" lang="zh-CN" sz="4400" spc="-1" strike="noStrike">
                <a:solidFill>
                  <a:srgbClr val="0e0e14"/>
                </a:solidFill>
                <a:latin typeface="隶书"/>
                <a:ea typeface="隶书"/>
              </a:rPr>
              <a:t>，舟中人</a:t>
            </a:r>
            <a:r>
              <a:rPr b="0" lang="zh-CN" sz="4400" spc="-1" strike="noStrike">
                <a:solidFill>
                  <a:srgbClr val="660066"/>
                </a:solidFill>
                <a:latin typeface="隶书"/>
                <a:ea typeface="隶书"/>
              </a:rPr>
              <a:t>两三粒</a:t>
            </a:r>
            <a:r>
              <a:rPr b="0" lang="zh-CN" sz="4400" spc="-1" strike="noStrike">
                <a:solidFill>
                  <a:srgbClr val="0e0e14"/>
                </a:solidFill>
                <a:latin typeface="隶书"/>
                <a:ea typeface="隶书"/>
              </a:rPr>
              <a:t>而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71640" y="7794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上下一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06080" y="2060640"/>
            <a:ext cx="182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长堤一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湖心亭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余舟一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舟中人两三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19000" y="260280"/>
            <a:ext cx="167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雪后西湖全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突出天地茫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造了静寂、空旷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混沌的境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08360" y="2492280"/>
            <a:ext cx="25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特写西湖近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描绘眼前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渺小、微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581360"/>
            <a:ext cx="93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本句写景，物我交融，天人合一。景中含情，情景交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既透露出作者游湖观雪的雅趣，又有一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孤独、落寞之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375680" y="216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4599000" y="60213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手法：白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308720" y="620640"/>
            <a:ext cx="107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突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0560" y="2708280"/>
            <a:ext cx="68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9.5"/>
                                  </p:iterate>
                                  <p:childTnLst>
                                    <p:set>
                                      <p:cBhvr>
                                        <p:cTn id="2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79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7,99,9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79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7,99,9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79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867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白描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是一种描写的方法。原是中国画的一种技法，是指一种不加色彩或很少用色彩，而只用墨线在白底上勾勒物象的画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3500280"/>
            <a:ext cx="85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为一种描写方法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白描是指抓住事物的主要特征，用简练朴实的文字，只寥寥几笔就勾勒出事物形象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03280" y="54936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Arial"/>
                <a:ea typeface="黑体"/>
              </a:rPr>
              <a:t>奇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333360"/>
            <a:ext cx="358920" cy="1295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2000" y="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上下一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134136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一痕、一点、一芥、两三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708280"/>
            <a:ext cx="358920" cy="1728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31"/>
                </a:lnTo>
                <a:cubicBezTo>
                  <a:pt x="10800" y="9731"/>
                  <a:pt x="5400" y="10631"/>
                  <a:pt x="0" y="10631"/>
                </a:cubicBezTo>
                <a:cubicBezTo>
                  <a:pt x="5400" y="10631"/>
                  <a:pt x="10800" y="11531"/>
                  <a:pt x="10800" y="124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2000" y="2421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与众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3284640"/>
            <a:ext cx="316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喜—知己之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32000" y="4076640"/>
            <a:ext cx="33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方正姚体"/>
              </a:rPr>
              <a:t>痴—醉情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3280" y="306864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雅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0"/>
            <a:ext cx="900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ff"/>
                </a:solidFill>
                <a:latin typeface="Arial"/>
                <a:ea typeface="华文行楷"/>
              </a:rPr>
              <a:t>湖心亭看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16000" y="981000"/>
            <a:ext cx="358920" cy="2592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04000" y="260280"/>
            <a:ext cx="1368360" cy="764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白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920" y="49417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抒发了作者痴迷于天人合一的山水之乐，醉情于世俗之外的闲情雅致。同时天涯遇知音的喜悦又化解了作者心中淡淡的愁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  <a:ea typeface="黑体"/>
              </a:rPr>
              <a:t>     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黑体"/>
              </a:rPr>
              <a:t>赏析一段文字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Arial"/>
                <a:ea typeface="黑体"/>
              </a:rPr>
              <a:t>     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  <a:ea typeface="黑体"/>
              </a:rPr>
              <a:t>尝试一种写法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84360" y="47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04160" y="907920"/>
            <a:ext cx="245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细黑"/>
              </a:rPr>
              <a:t>白描写景，</a:t>
            </a:r>
            <a:r>
              <a:rPr b="1" lang="zh-CN" sz="2800" spc="-1" strike="noStrike">
                <a:solidFill>
                  <a:srgbClr val="636395"/>
                </a:solidFill>
                <a:latin typeface="Times New Roman"/>
                <a:ea typeface="华文细黑"/>
              </a:rPr>
              <a:t>只需几笔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细黑"/>
              </a:rPr>
              <a:t>就可勾勒出一幅鲜明的图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细黑"/>
              </a:rPr>
              <a:t>使人如身临其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07720" y="2768760"/>
            <a:ext cx="199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天净沙</a:t>
            </a: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·</a:t>
            </a: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秋思</a:t>
            </a: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    </a:t>
            </a:r>
            <a:r>
              <a:rPr b="1" lang="zh-CN" sz="2800" spc="-1" strike="noStrike">
                <a:solidFill>
                  <a:srgbClr val="ff0066"/>
                </a:solidFill>
                <a:latin typeface="华文新魏"/>
                <a:ea typeface="华文新魏"/>
              </a:rPr>
              <a:t>马致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枯藤老树昏鸦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小桥流水人家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古道西风瘦马。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夕阳西下， 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断肠人在天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92480" y="3048120"/>
            <a:ext cx="292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作者只是利用白描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对景物进行了排列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勾勒出一幅”天涯游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图”成就一首千古绝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" y="1989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91480" y="476640"/>
            <a:ext cx="264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晓出净慈寺送林子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杨万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毕竟西湖六月中，风光不与四时同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接天莲叶无穷碧，映日荷花别样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46200" y="990720"/>
            <a:ext cx="849780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宗元的《江雪》描写的也是雪景，也写到人的活动，体会它和本文在描写手法和表达感情上的异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江    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柳宗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千山鸟飞绝，万径人踪灭。</a:t>
            </a:r>
            <a:br>
              <a:rPr sz="5400"/>
            </a:b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孤舟蓑笠翁，独钓寒江雪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109872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描写手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湖心亭看雪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白描手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西湖的奇景和游湖人的雅趣相互映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江雪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烘托手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景为人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表达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湖心亭看雪》表达了作者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清高自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感情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淡淡的愁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江雪》表达了作者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怀才不遇的孤独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00000" y="2060280"/>
            <a:ext cx="68724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叙事是行文的线索，须用俭省的笔墨交代，如文中写“崇祯五年十二月，余住西湖”，“是日更定，余拿一小船，拥毳衣炉火，独往湖心亭看雪”，“到亭上”，“及下船”，交待了作者的游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56000" y="44280"/>
            <a:ext cx="3943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游记写作—叙事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split dir="out" orient="horz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8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09480" y="1828800"/>
            <a:ext cx="828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写景是游记的表现重点，要抓住景物的特点，把景物最打动人的地方表现出来，景中含情。本文写雪景的一段，作者就抓住了夜色中雪景的特点，一痕、一点、一芥、两三粒，正是茫茫雪境中的亮点，作者以他准确的感受体会到简单背后的震撼力，宇宙的空阔与人的渺小构成了强烈的对比，景物因此有了内容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56000" y="44280"/>
            <a:ext cx="3943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游记写作—写景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split dir="out" orient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939600" y="2060280"/>
            <a:ext cx="7088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湖心亭巧遇虽是叙事，但重在抒情。由从景的角度写景转变为从人的角度写景，将人与景有机地结合起来。人的参与，给有可能显得冷寂、单调的景物注入了生机。而人与景的融合，正是本文的特色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556000" y="44280"/>
            <a:ext cx="3943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</a:rPr>
              <a:t>游记写作—抒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</p:spTree>
  </p:cSld>
  <p:transition spd="slow">
    <p:split dir="out" orient="horz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38280" y="476280"/>
            <a:ext cx="786744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76280" y="476280"/>
            <a:ext cx="819144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85840" y="1576440"/>
            <a:ext cx="857232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634240" cy="274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90400" y="476280"/>
            <a:ext cx="796320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179280" y="260640"/>
            <a:ext cx="956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饮湖上初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苏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水光潋滟晴方好，山色空蒙雨亦奇。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欲把西湖比西子，淡妆浓抹总相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14520" y="476280"/>
            <a:ext cx="791496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1280" y="476280"/>
            <a:ext cx="9001440" cy="5905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2304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9940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89200" y="260640"/>
            <a:ext cx="551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题临安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林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山外青山楼外楼，西湖歌舞几时休？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暖风熏得游人醉，直把杭州作汴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853400" cy="5894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62680" cy="582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07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19280" y="1916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华文行楷"/>
              </a:rPr>
              <a:t>湖心亭看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350028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ff"/>
                </a:solidFill>
                <a:latin typeface="Arial"/>
                <a:ea typeface="方正舒体"/>
              </a:rPr>
              <a:t>张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7499520" cy="5886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559440" y="1557360"/>
            <a:ext cx="1826280" cy="3240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行楷"/>
              </a:rPr>
              <a:t>湖  心  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476280"/>
            <a:ext cx="7777080" cy="57657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927920" cy="5945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7:02:32Z</dcterms:created>
  <dc:creator>hxx</dc:creator>
  <dc:description/>
  <dc:language>en-US</dc:language>
  <cp:lastModifiedBy>微软用户</cp:lastModifiedBy>
  <dcterms:modified xsi:type="dcterms:W3CDTF">2013-11-25T07:38:32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